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B912-64BD-4667-852F-9372CC8C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ECE4-9E1E-483E-BAAA-F080303D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BAAF-16F4-4184-AE72-15DCE964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E148-104E-44C1-BD00-E9DB27A7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2715-89A8-47BB-82AE-95B9F68C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5232-BE72-4FEF-8A38-65E382E5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41AF-32FC-42B4-B054-63E147EE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86E3-378C-4822-8163-816DD2EF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EC56-79FD-44FF-A6AB-D0FD0F4C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23ED-9A0D-4325-B7C2-114016DF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48D1-71EC-4D1E-B418-35190E7E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A266-8E37-42D6-8AF0-AD22962B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2035-6453-416B-B20F-31680D9D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95B2-9953-4C05-A521-58785BBD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E1D6-3D28-4B42-825F-49F0FB4A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5515-582F-4B37-B4FE-7A2ED9DC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C1FA-D06F-4C25-B944-D5ADA382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D30E-FE94-4E8E-8732-3494B344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BBD0-E1CE-483F-BABE-339C3DFF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A3D9-2DD1-467B-BD4A-03860982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DCA6-6B38-43C9-B2EF-78F0BDBA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1F7E-BF7E-45F8-9C3F-A58816FD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2D18-CE5E-4009-A74B-1343E7AA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5DAE-AA70-4AA2-BAD7-C294AD83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ECC4-869B-47BA-89C8-50752E6EC72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2678-9B83-49DC-B799-F2D7785B850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zhura@roerich.com" TargetMode="External"/><Relationship Id="rId2" Type="http://schemas.openxmlformats.org/officeDocument/2006/relationships/hyperlink" Target="http://www.roerich.com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hyperlink" Target="http://ru.wikipedia.org/wiki/&#1060;&#1072;&#1081;&#1083;:Angelsatmamre-trinity-rublev-1410.jpg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6848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uk-UA" sz="2500" spc="-1" strike="noStrike">
                <a:solidFill>
                  <a:srgbClr val="330066"/>
                </a:solidFill>
                <a:latin typeface="Arial"/>
              </a:rPr>
              <a:t>ФИЛОСОФСКИЕ ОСНОВЫ ИНТЕЛЛЕКТУАЛЬНОЙ  </a:t>
            </a:r>
            <a:r>
              <a:rPr b="1" lang="ru-RU" sz="2500" spc="-1" strike="noStrike">
                <a:solidFill>
                  <a:srgbClr val="330066"/>
                </a:solidFill>
                <a:latin typeface="Arial"/>
              </a:rPr>
              <a:t>ДИСТАНЦИОНН</a:t>
            </a:r>
            <a:r>
              <a:rPr b="1" lang="uk-UA" sz="2500" spc="-1" strike="noStrike">
                <a:solidFill>
                  <a:srgbClr val="330066"/>
                </a:solidFill>
                <a:latin typeface="Arial"/>
              </a:rPr>
              <a:t>ОЙ</a:t>
            </a:r>
            <a:r>
              <a:rPr b="1" lang="ru-RU" sz="2500" spc="-1" strike="noStrike">
                <a:solidFill>
                  <a:srgbClr val="330066"/>
                </a:solidFill>
                <a:latin typeface="Arial"/>
              </a:rPr>
              <a:t> СИСТЕМ</a:t>
            </a:r>
            <a:r>
              <a:rPr b="1" lang="uk-UA" sz="2500" spc="-1" strike="noStrike">
                <a:solidFill>
                  <a:srgbClr val="330066"/>
                </a:solidFill>
                <a:latin typeface="Arial"/>
              </a:rPr>
              <a:t>А</a:t>
            </a:r>
            <a:r>
              <a:rPr b="1" lang="ru-RU" sz="2500" spc="-1" strike="noStrike">
                <a:solidFill>
                  <a:srgbClr val="330066"/>
                </a:solidFill>
                <a:latin typeface="Arial"/>
              </a:rPr>
              <a:t> ОБУЧЕНИЯ</a:t>
            </a: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564000" y="3049560"/>
            <a:ext cx="3533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Левшов А.В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Джура С.Г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Чурсинов В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 Unicode MS"/>
                <a:hlinkClick r:id="rId1"/>
              </a:rPr>
              <a:t>dzhura@roerich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(062) 337-32-6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 Unicode MS"/>
                <a:hlinkClick r:id="rId2"/>
              </a:rPr>
              <a:t>www.roerich.com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donntu_gerb1"/>
          <p:cNvPicPr/>
          <p:nvPr/>
        </p:nvPicPr>
        <p:blipFill>
          <a:blip r:embed="rId3"/>
          <a:stretch/>
        </p:blipFill>
        <p:spPr>
          <a:xfrm>
            <a:off x="7451640" y="549360"/>
            <a:ext cx="1479600" cy="2087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24000" y="2924280"/>
            <a:ext cx="309564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Место педагогики в общей структуре наук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691200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Гипотеза иерархии зн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й статье предлагаем следующую гипотезу иерархии знания: </a:t>
            </a: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информация – знание – Метазна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ычная неструктурированная информация есть первооснова, из которой потом формируется знание (назовем его прикладное или необходимого для повседневной жизни – заработка на хлеб насущный). Знание с большой буквы – это то знание, которое дает возмож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ести или найти путь в Вечность. Это и есть обретение метазнания, исторически даваемого человечеству через пророков и Учителей. Эти знания люди получали в иных состояниях сознания, которые изучаются сейчас особенно тщательно, путем прозрения. Такие прозрения были у Якоба Беме, сапожника; или у Уильяма Блейка, полуграмотного гравера; у необразованных пророков Иезекиля и Иоанна Богослова, с его страшным Апокалипсисом. И, наконец, великие прозрения, не имевшего никакого образования К.Э.Циолковского, именем которого сейчас названа научная Академия. Вспомним также Эдгара Кейси и Джона Кили /11/.  Это путь познания всех великих людей, в том числе и энергетика всех времен и народов Николы Тесла. «Космос лепит лик Земли…» – говорил В.И.Вернадский, портрет которого висит в кабинете ректора ДонНТУ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848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313160" cy="63514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003640" y="981000"/>
            <a:ext cx="3384720" cy="56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«физическая и психическая реальности имеют неразрывную взаимосвязь и являются лишь частными случаями еще мало осмысленной в своей многомерной сложности интегральной космической Реаль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С.Р.Абл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Так что верно 7-3-11 ??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3819600" cy="4038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423px-Banner_of_Peace_from_the_Roerich_Pact.svg.png"/>
          <p:cNvPicPr/>
          <p:nvPr/>
        </p:nvPicPr>
        <p:blipFill>
          <a:blip r:embed="rId2"/>
          <a:stretch/>
        </p:blipFill>
        <p:spPr>
          <a:xfrm>
            <a:off x="4067280" y="2060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516720" y="1700280"/>
            <a:ext cx="2333520" cy="3816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Angelsatmamre-trinity-rublev-141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19640" y="1989000"/>
            <a:ext cx="285732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Гипотеза схемы сознания и обмена знаниями в педагогическом процессе.</a:t>
            </a: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159440" cy="4680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4160880" cy="4399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423px-Banner_of_Peace_from_the_Roerich_Pact.svg.png"/>
          <p:cNvPicPr/>
          <p:nvPr/>
        </p:nvPicPr>
        <p:blipFill>
          <a:blip r:embed="rId3"/>
          <a:stretch/>
        </p:blipFill>
        <p:spPr>
          <a:xfrm>
            <a:off x="4284720" y="177336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Забытая педагогика Будущего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635280" y="1719360"/>
            <a:ext cx="5051520" cy="45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шие достижения в педагогике связаны с использованием так называемого психофизического канала. О таких педагогах говорят, что они «от Бога». Они могут пользоваться не только и не столько информационными технологиями, а этим самым психофизическим каналом, который связывает их с ноосферой (базой данных или Богом, как говорил проф. В.В.Пак). Это направление практически не изучается. А ведь это, как мы показали выше, именно и есть предмет метапедагогики. Хотя об этом ни раз писали, но «воз и ныне там». Поскольку знания каждого индивидуума ограничены и он не может знать всего, отличие гения от таланта, по мысли А.Шопенгауэра, состоит в том, что «талант попадает в цели, которые видят люди, а гений в те цели, которые они еще не видят». Это и есть педагоги от Бога. Мы их знаем, но опыт их неповторим. Мы можем лишь созерцать их труды и «смотреть в их сторону» ибо это Знание и их метод  невыразимы, оно может быть постигнуто лишь созерцанием и вхождением в резонанс с этими высокими вибрациями. Гипотеза такой передачи приведена на следующем слайде. Эта гипотеза находится в полном соответствии с энергоинформационной педагогикой, которая развита в работе украинского педагога-новатора И.Н.Подлас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244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Схема взаимодействия учитель/ученик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в педагогическом энергоинформационном процессе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048040" y="1719360"/>
            <a:ext cx="504792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Выводы (1)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ой статье приведена гипотеза общения (передачи Знания) одного сознания другому, которая принципиально важна для создания дистанционных курсов нового поколения, в частности, студентов-энергетиков. Поставлена проблема цели педагогики. Показаны пути ее решения через теорему Геделя и развития понятия метапедагогики. Современная педагогическая мысль говорит о том, что цель образования может быть только одна – формирование национальной элиты государства /16/, но никакая «максимальная передача знаний и умений», что тоже важно, но лишь на нижнем уровне. Пора подняться и выйти на метауровень понимания проблемы. А на этом уровне – нет технократии, которая ведет себя по отношения к человеку и Земле как представители «черной магии», поскольку использование скрытых сил природы и духа в целях эгоистического завладения властью над людьми или над богатствами издревле относилось именно к чёрной маги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Выводы (2)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е этим ли сейчас занимается человечество и в услуге у него стоит та самая педагогика – служанка этих самых черных сил? Не пора ли вернуть педагогике ее высокий смысл – поиска Истины. Когда общество дорастет до этой мысли, оно и будет достойно великого будущего. И ещё один аспект ответственности. Когда слышишь, что научное знание всегда есть добро, вспоминается саркастическая реплика Ф.Ницше (1844–1900): «Где древо познания — там всегда рай — так вещают и старейшие, и новейшие змеи». То есть Знание не всегда добро, и кто сумеет отличить одно от другого, у того и приложится, а у остальных – отнимется, как говорилось в Писани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Анонс работ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блема передачи знания в педагогике многогранна. Первое – это </a:t>
            </a:r>
            <a:r>
              <a:rPr b="1" lang="ru-RU" sz="3000" spc="-1" strike="noStrike" u="sng">
                <a:solidFill>
                  <a:srgbClr val="000066"/>
                </a:solidFill>
                <a:uFillTx/>
                <a:latin typeface="Arial"/>
              </a:rPr>
              <a:t>проблема утери цели педагогики как науки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ерна ли цель педагогических исследований современной украинской педагогики в целом как науки? Может ли она называться правопреемницей высоких идеалов выдающихся педагогов прошлого? Большой вопрос. Давайте разберемс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397160" y="888840"/>
            <a:ext cx="634968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Постановка задач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ить вектор развития педагогики в Украи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анализировать результаты независимости ВУЗов в сложившейся ситу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нформировать о результатах анализа этой ситуации институтом стратегических иссследований Укра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4920" y="1628640"/>
            <a:ext cx="83026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о второй половины ХХ века наука становится придатком высоких научных технологий, и ценности научного поиска померкли. К сожалению, не познание истины, а выгода, бизнес, социальный заказ выходят на первый пла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аким образом, большинство педагогических исследований направлены на решение социальных запросов общества. Педагогика, как, впрочем и другие науки, сейчас не ищет истину (то есть не выполняет свою главную миссию), а довольствуется второстепенной ролью служанки бизнеса и демократии, которые ведут стран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в пропасть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онстатируем, что </a:t>
            </a:r>
            <a:r>
              <a:rPr b="1" lang="ru-RU" sz="1700" spc="-1" strike="noStrike" u="sng">
                <a:solidFill>
                  <a:srgbClr val="000066"/>
                </a:solidFill>
                <a:uFillTx/>
                <a:latin typeface="Arial"/>
              </a:rPr>
              <a:t>цель и смысл педагогики в Украине во многом утеряны или говоря мягче невостребованны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скольку цель любого педагогического процесса может быть описана в терминах теории оптимизации (поскольку оптимальным образом нужно обучить человека и есть критерии этой оптимальности), то педагогических процесс может быть рассмотрен как целевая функция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ЦФ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(в общем случае многокритериальная со своими весовыми коэффициентами) и областью ограничений 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(ОГР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финансовых, временных и прочих).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333360"/>
            <a:ext cx="72230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ипотеза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раинская педагогика больна общей для официальной науки болезнью - потерей своей изначальной цели – поиска истины и направлена на выполнение социального заказ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826920" y="5445000"/>
                <a:ext cx="345780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=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/max: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ЦФ</m:t>
                            </m:r>
                            <m:r>
                              <m:t xml:space="preserve">)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39640" y="3716280"/>
            <a:ext cx="33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Не сумма знаний, а «правильный образ мышления» и нравственное воспитание - вот цель обучения. М.В.Ломоно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2190960" cy="2352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859280" y="1052640"/>
            <a:ext cx="2793960" cy="3171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427640" y="4437000"/>
            <a:ext cx="3384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«Важно не количество знаний, а качество их. Можно знать очень многое, не зная самого важного» Л.Н.Толст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404640"/>
            <a:ext cx="734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Пророчества великих (не о нашем ли времени?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62064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000066"/>
                </a:solidFill>
                <a:uFillTx/>
                <a:latin typeface="Arial"/>
              </a:rPr>
              <a:t>Состояние вопроса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1878840"/>
            <a:ext cx="3025800" cy="42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Указанные проблемы практически не ставятся. Исследователи сразу начинают ставить вопрос о том, как больше передать знаний (информации и прочего) и чтобы студент смог их в нужный момент воспроизвести. Искусству мышления учат очень не многие, это дело  стало прерогативой отдельных энтузиастов. Но  это отдельный вопрос</a:t>
            </a:r>
            <a:r>
              <a:rPr b="0" lang="ru-RU" sz="19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419640" y="1820880"/>
            <a:ext cx="52894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Что есть Истина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" descr="423px-Banner_of_Peace_from_the_Roerich_Pact.svg.png"/>
          <p:cNvPicPr/>
          <p:nvPr/>
        </p:nvPicPr>
        <p:blipFill>
          <a:blip r:embed="rId1"/>
          <a:stretch/>
        </p:blipFill>
        <p:spPr>
          <a:xfrm>
            <a:off x="6443640" y="33336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5280" y="1916280"/>
            <a:ext cx="75614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429000" cy="4838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284720" y="1844640"/>
            <a:ext cx="43196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0066"/>
                </a:solidFill>
                <a:latin typeface="Arial"/>
              </a:rPr>
              <a:t>«Истина — гносеологическая характеристика мышления в его отношении к своему предмету». Самое известное определение истины было высказано Аристотелем и сформулировано Исааком Израильтянином, затем оно было воспринято Фомой Аквинским и всей схоластической философией. Это определение гласит, что истина есть conformitas seu adaequatio intentionalis intellectus cum re (интенциональное согласие интеллекта с реальной вещью или соответствие ей). В этой статье (о самомнение!) мы попытаемся развить понятие реальности в том виде как его сейчас определяет современная физика (теория струн, 11-мерность реальности) и в соответствии с этим подкорректируем предмет и целевую функцию педагогики и, возможно, науки в целом. Амбициозная задача! Наиболее полно на наш взгляд этот вопрос раскрыт у Е.П.Блаватской /7/, но это вряд ли кто сочтет в нынешней парадигме образования заслуживающим внимания, а напрасно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7345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Что есть Знание?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16480" y="1773000"/>
            <a:ext cx="3827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«Знание представляет собоупорядоченную совокупность новых характеристик субъекта и мира и их взаимосвязей, представленных в форме конкретного </a:t>
            </a:r>
            <a:r>
              <a:rPr b="1" lang="ru-RU" sz="1600" spc="-1" strike="noStrike" u="sng">
                <a:solidFill>
                  <a:srgbClr val="000066"/>
                </a:solidFill>
                <a:uFillTx/>
                <a:latin typeface="Arial"/>
              </a:rPr>
              <a:t>метатекста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. В знании осуществляется перевод разрозненных представлений в систематизированную общезначимую форму, удержание того, что может быть сохранено, передано, развито. Проблема знания, структуры, возникновения и специфики его восприятия и понимания (когнитивность) и порождения нового знания (креативность) принадлежит к числу философско-методологических, естественнонаучных и гуманистическо-прикладных – </a:t>
            </a:r>
            <a:r>
              <a:rPr b="0" lang="ru-RU" sz="1600" spc="-1" strike="noStrike" u="sng">
                <a:solidFill>
                  <a:srgbClr val="000066"/>
                </a:solidFill>
                <a:uFillTx/>
                <a:latin typeface="Arial"/>
              </a:rPr>
              <a:t>едва ли не самых сложных проблем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5329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330066"/>
                </a:solidFill>
                <a:uFillTx/>
                <a:latin typeface="Arial"/>
              </a:rPr>
              <a:t>Метапедагогика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3715920"/>
            <a:ext cx="8136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овременном этапе развития науки и науковедения следует четко подразделять две разные (а многие считают — и противоположные) области познания — собственно научную и метанаучную. В работе /12/ сделано доказательное предположение, что подобное разделение необходимо и возможно использовать и в педагогической нау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бственно научное познание направлено на внешний относительно науки мир, а самопознание обращено внутрь самой науки. Их взаимодействие позволяет науке существовать и развиваться. Исходя из этого, науку можно представить как систему, включающую в себя две взаимодействующие подсистемы: собственно науку и метанаук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64771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8:35:35Z</dcterms:created>
  <dc:creator>Fernando Merello</dc:creator>
  <dc:description/>
  <dc:language>en-US</dc:language>
  <cp:lastModifiedBy>С.Г.Джура</cp:lastModifiedBy>
  <dcterms:modified xsi:type="dcterms:W3CDTF">2012-09-11T12:04:13Z</dcterms:modified>
  <cp:revision>65</cp:revision>
  <dc:subject/>
  <dc:title>COIN Project: lessons learned during the first year of the project</dc:title>
</cp:coreProperties>
</file>