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884-93BF-429A-AA13-F4610C763D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C831-1492-460B-B4E7-306E9BAAE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339-8B30-466D-98B9-4BDEBDF92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7852-E7B0-463C-B82D-B28EBB1BE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4587-A4EE-4068-B42C-38B6E885C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1D6B-9088-4B78-B080-1717AFCA5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8266-6E5E-4310-9E71-15BDE50F7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ACA4-58D6-436C-9C39-5FAEE28CE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D1B0-4C80-4C2B-BA35-BB1F13F98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0F5-082D-4AA7-8EA8-4592DEF2C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FC61-D525-45F0-90B9-BB6A73781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3418-762F-44C7-8485-006E5CE4B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898C-3E97-4D1E-A489-FF5E557D1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777-48D3-4300-BC91-4093D2ADF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6E91-F9D6-4E91-A9B6-C58359B89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6FAF-6401-4AB4-B5E8-D7498EB71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3957-67DC-41F0-98E7-4A28AA939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FAC-3AE1-4E92-8F35-71463AEF5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70FB-9ADF-47C3-BC80-9C0894627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682-F703-4E9C-8A52-64B9DE79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405-5257-4869-93D0-976B7B9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561-52F3-49F4-BF05-0A4306FF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ACA-F053-4A4B-94F2-6A4FFBFF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D08-D806-4EF2-9111-92622B01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0B2-41B7-42D9-8722-CAD8550E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488B-EFF3-4FEA-A9F3-A3826FF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148-1F08-4931-9615-361E91C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098-4BE6-4A67-8184-379FBFC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0B79-5E43-4BB0-8F8E-1A5B4851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D541-274D-41A6-8975-0EFA502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F35-4185-4F92-B31F-80103636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EB74-BD0A-4963-9746-5BB05A1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F59E-46A7-408A-B65C-5477CE7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065D-1A4D-49C4-B676-ABBD3246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E17B-5828-4EB5-86DE-3463C391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4113-DFC9-42F8-87B1-C43AF082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CAA-F08C-45B9-8A00-A92F62A3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42B-B586-4A5D-80B0-EA7DF225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D02-4E11-4769-9EEC-5BD56BEF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11D-67E2-4E29-B319-175E7F1B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5B0-B35C-4AEB-8E85-531FB10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CAB-10AA-4E5D-B805-043CB127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103-BAA3-45CA-BF41-C340352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728-8D3A-4F70-AB21-08CB46FDC1D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A71-A5F6-4723-8FC2-B68BDBD508C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ura@roerich.com" TargetMode="External"/><Relationship Id="rId2" Type="http://schemas.openxmlformats.org/officeDocument/2006/relationships/hyperlink" Target="http://www.roerich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РЕШАЮЩАЯ РОЛЬ КУЛЬТУРЫ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 СТАНОВЛЕНИИ И РАЗВИТИИ НООСФЕРЫ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Джура С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1"/>
              </a:rPr>
              <a:t>dzhura@roeri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062) 337-32-6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2"/>
              </a:rPr>
              <a:t>www.roerich.com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onntu_gerb1"/>
          <p:cNvPicPr/>
          <p:nvPr/>
        </p:nvPicPr>
        <p:blipFill>
          <a:blip r:embed="rId3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logo2_new"/>
          <p:cNvPicPr/>
          <p:nvPr/>
        </p:nvPicPr>
        <p:blipFill>
          <a:blip r:embed="rId4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Образование или образовательные услуги? Целевая функция науки.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кольку цель любого научного процесса может быть описана в терминах теории оптимизации (поскольку оптимальным образом нужно достичь заданной цели), то и научная задача может быть рассмотрена как целевая функция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ЦФ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общем случае многокритериальная со своими весовыми коэффициентами) в области ограничений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ОГР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нансовых, временных и прочи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дагогических задачах ВУЗа нужно определить уровень квалификационной характеристики специалиста (знания и умения) — это целевая функция коллектива преподавателей ВУЗа в рамках ограничений (времени, возможностей программы — часов, а также педагогических и психологических характеристик слушателя, способного или не очень способного получать эти знани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Объект 1"/>
              <p:cNvSpPr txBox="1"/>
              <p:nvPr/>
            </p:nvSpPr>
            <p:spPr>
              <a:xfrm>
                <a:off x="2124000" y="3573360"/>
                <a:ext cx="37688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/max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ЦФ</m:t>
                            </m:r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539640" y="371628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е сумма знаний, а «правильный образ мышления» и нравственное воспитание - вот цель обучения. М.В.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lomonosov"/>
          <p:cNvPicPr/>
          <p:nvPr/>
        </p:nvPicPr>
        <p:blipFill>
          <a:blip r:embed="rId1"/>
          <a:stretch/>
        </p:blipFill>
        <p:spPr>
          <a:xfrm>
            <a:off x="900000" y="1052640"/>
            <a:ext cx="2190960" cy="2352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640903"/>
          <p:cNvPicPr/>
          <p:nvPr/>
        </p:nvPicPr>
        <p:blipFill>
          <a:blip r:embed="rId2"/>
          <a:stretch/>
        </p:blipFill>
        <p:spPr>
          <a:xfrm>
            <a:off x="4859280" y="1052640"/>
            <a:ext cx="2793960" cy="317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2"/>
          <p:cNvSpPr/>
          <p:nvPr/>
        </p:nvSpPr>
        <p:spPr>
          <a:xfrm>
            <a:off x="4427640" y="4437000"/>
            <a:ext cx="338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«Важно не количество знаний, а качество их. Можно знать очень многое, не зная самого важного» Л.Н.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95280" y="40464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Пророчества великих (не о нашем ли времени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3454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 есть Знание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16480" y="1773000"/>
            <a:ext cx="3827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«Знание представляет собоупорядоченную совокупность новых характеристик субъекта и мира и их взаимосвязей, представленных в форме конкретного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метатекс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. В знании осуществляется перевод разрозненных представлений в систематизированную общезначимую форму, удержание того, что может быть сохранено, передано, развито. Проблема знания, структуры, возникновения и специфики его восприятия и понимания (когнитивность) и порождения нового знания (креативность) принадлежит к числу философско-методологических, естественнонаучных и гуманистическо-прикладных – </a:t>
            </a:r>
            <a:r>
              <a:rPr b="0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едва ли не самых сложных проблем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wisdom_chem"/>
          <p:cNvPicPr/>
          <p:nvPr/>
        </p:nvPicPr>
        <p:blipFill>
          <a:blip r:embed="rId1"/>
          <a:stretch/>
        </p:blipFill>
        <p:spPr>
          <a:xfrm>
            <a:off x="324000" y="1844640"/>
            <a:ext cx="532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Решающая роль Культуры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И. Рерих в письме от 5 cентября 1935 г.: «…Цивилизация вытеснила понятие Культуры, и многие не понимают, что можно быть цивилизованным дикарём. Упускается из виду, что наслоения Культуры накапливаются веками, но цивилизация может быть создана в одно десятилетие» /18/. Интересно, что такая точка зрения полностью совпадает с выводами классических философов, которых уж никак нельзя отнести к эзотер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е Ортега-и-Гассет: «Очевидно, сложившаяся ситуация порождает жестокость, за роковые последствия которой сейчас расплачивается Европа. Причиной катастрофичности современной европейской ситуации является то, что английский врач, французский врач, немецкий врач бескультурны, у них нет жизненной системы представлений о мире и человеке, соответствующей времени. Этот средний человек — новый варвар, отставший от своей эпохи, архаичный и примитивный по сравнению с ужасающим настоящим и его проблемами. Этот новый варвар, в принципе, профессионал, знающий гораздо больше, чем когда-либо прежде, но он — инженер, врач, адвокат, учёный — также и гораздо более бескультурен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е будем же дикарями нау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М. Достоевский: «В особенности этим отличалась полунаука, самый страшный бич человечества, хуже мора, голода и войны, неизвестный до нынешнего столетия. Полунаука — это деспот, каких ещё не приходило до сих пор никогда. Деспот, имеющий своих жрецов и рабов, деспот, пред которым всё преклонилось с любовью и с суеверием, до сих пор немыслимым, пред которым трепещет даже сама наука и постыдно потакает ему» /20/. Для педагогики крайне важен тезис Сократа: «Есть только одно благо — знание и одно только зло — невежество». Стивен Хокинг, ныне работающий на кафедре Кембридского университета, той самой, что в своё время возглавлял сам И. Ньютон, развивает мысль Ф.М. Достоевского: «Главный враг знания не невежество, а иллюзия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ега-и-Гассет: «Не будем же дикарями науки. Наука — это великое человеческое свершение; но выше неё стоит сама человеческая жизнь, которая делает науку возможной. В таком случае, нарушение элементарных жизненных условий невозможно восполнить»/19/. Сегодня стремления и чаяния многих людей направлены именно туда, в Европу, хотя уже давно отмечено, как в экзотерической так и в эзотерической традициях, что будущего у Европы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356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иссия университе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 (Ортега-и-Гассет) должны рассматривать университетское образование как обладающее тремя функц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. Передача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. Обучение професс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I. Научное исследование и обучение новых людей нау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гда есть система жизненных идей, которая представляет собой наивысшую высоту времени, система, которая наиболее современна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та система — Культур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одня мы переживаем — вопреки уверенному самодовольству и внешней видимости — период ужасающего бескульту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, чтобы человек науки перестал быть тем, кем он, к сожалению, довольно часто является сейчас: варваром, отлично знающим один предм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делал бы из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факультета» культу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ядро 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го высшего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Опыт ДонНТУ по реанимации Института культуры.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Институт культуры ДонНТУ является правопреемником Университета культуры, который, в свою очередь, с 1959 года существовал в стенах тогда Донецкого индустриального института. Организатором его выступила Р.И. Ройтблат — энтузиаст и преданный идеалам просветительства человек. В мае 2012 года исполнилось 5 лет работы Института культуры ДонНТУ, который в новом составе работает в области расширения гуманитарных знаний студентов и формирования гармонически развитой личности будущего инженера. По сути это выполнение главной миссии университета — культурной, ибо она даёт вектор развития техники и развития самой циви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культуры ДонНТУ работает по пяти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овые направления нау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едевры мировой живопи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едевры мирового кинематограф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атральное нап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узыка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Практическая реализация идеи</a:t>
            </a: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 (1)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13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6 лет проведено более 170 заседаний. Особенно хочется поблагодарить Профессорское собрание ДонНТУ, представители которого уже ни раз вели занятия Института куль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ётся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здательска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ститут культуры замечен не только в Европе, но и за океаном. Культурная общественность США Институту культуры ДонНТУ было любезно предложено издать впервые на русском языке книгу У.К. Джаджа "Указания Пути", что и было сделано. Эта книга передана в ряд ведущих библиотек не только Украины, но и России, Великобритании, Голландии, Польши и др. стр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ституте культуры выступили со своими концертами четыре российских барда: доктор искусствоведения Е.А. Минаев (г. Москва), доктор технических наук И.В. Плохова (г. Псков), солист Вятской филармонии К.Н. Юдичев и Александр Звенигородский из Санкт-Петербурга. Все занятия Института культуры проходят бесплатно для посетителей. Девизом Института культуры ДонНТУ являются слова Сократа: «Есть одно только благо — Знание и одно только зло — невежество». На искоренение этого невежества именно в себе и направлена деятельность института. Поэтому он бесплатен для посетителей, ибо то Знание, которое здесь д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ся, нельзя измерить никакими земными мерками. А экзаменом является  сама наша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Практическая реализация идеи</a:t>
            </a: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 (2)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3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ституте культуры выступали также Сергей Солёный,  Максим Романовский с группой «Эхо Радуги», музыкальный коллектив «Точка тишины» (г.Донецк), братья Золотухины (г.Луганск). В ближайшем будущем ждём в гости группу «Авакара» (г. Соч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музыкальному направлению можно добавить встречи, посвящённые Скрябину, Моцарту, Рахманинову, Шнитке, Баху, Шопену, Прокофьев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ы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мьеры документальных фильм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нятых по заказу Института культуры: «SOS» или «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з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щ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ения», а так же фильм, посвящ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ный учёному ДонНТУ В.В.Паку, открывший серию «Выдающиеся уч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 Украи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этическое направле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ют донецкие поэты  Елена Баранова, Борис Белаш и Владимир Калиничен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еатральное направл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тудия ДонНТУ «Соф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йн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ь» и театр-студия «Пятое колес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ыставочно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ыставка репродукций картин «Связь врем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: от Леонардо да Винчи до Николая Рериха» и «Человек. Земля. Вселенная» «Путь Красот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ы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2 конкурса школьных сочине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Почему каждая страна должна охранять сокровища Культуры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анализированы проблемы выбора вектора развития человечества. Приведено доказательство решающей роли культуры как интегрального критерия развития. Предложены варианты выхода из мировоззренческого кризиса, который является основой экономического. Приведён опыт реанимации и развития института культуры ДонНТУ и на его примере обоснована решающая роль культуры в становлении но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ько  полноценный синтетичный подход в науке способен выявить признаки эволюционизма в различных природных процессах, а значит, наметить реальный вектор развития самых разнообразных объектов в Космосе и, в частности, на Земле для всех проявлений жизни; причём, на планете — под воздействием внешних, космических, факторов. Это тем более необходимо проследить в связи со всё более убыстряющимся темпом происходящих на Земле изменений, включа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астрофические явл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геологические, климатические, а также мощные подвижки в жизни планетарного социума. Мы живём в определённом переходном периоде, не коротком — по человеческим меркам, предсказанном ещё Древней Мудростью (например, на Западе — это переход от эпохи Рыб к эпохе Водолея, на Востоке — от Кали-юги к Сатья-юге, Золотому Веку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татье показано, что максимальную пользу от знания даёт его высшая форма — мудрость. «Мудрость веков заключена в словах Иисуса: «Да будет воля Твоя» /8/. Вектор развития этой воли Всевышней (а по сути эволюции) даёт Культура. Критерием её является истина, а эстетическим выражением — красота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Главная задача человечества не экономическая, а этическая — развитие внутреннего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Если человечество будет упорствовать в своём невежестве в этих вопросах, то его ждёт участь Атлантиды и Лемурии. Сейчас человечеству даны Гностические источники, которые составляют суть и смысл Культуры: Живая Этика, Учение Храма, Теософия. Именно они дают ключи к пониманию культуры как синтеза религии, науки и искусства. Ибо именно так сказано о Гнозисе (эзотерической литературе): «Представляет интерес мнение Учителей о состоянии литературного творчества в человечестве. Они говорят, что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традиционная литература фактически исчерпала себя в лице Толстого и Достоевского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нтерес для будущего представляю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оизведения исповедального характера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 человеческие документы с фиксацией разнообразных опытов во Всеединстве Спектра Всей живой Жизни» /24/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гнозисе (эзотерической литературе) дан новый уровень знания, который нужно ассимилировать и применить во всех областях приложения культуры в жизни. Знаковым является предупреждение о возможности гибели культуры, без которой нет будущего у человечества в целом: «В прошлых тысячелетиях люди могли принимать или отвергать даваемые частицы Великого Учения, но ныне, когда в распоряжении людей находятся могучие энергии, неприятие угрож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гибелью культу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Атлантида погибла вследствие злоупотребления Знанием. Катастрофа была частичной. Ныне гибель угрожает всей планете, ибо в орбиту действия вовлечено всё человечество, возросшее в своём числ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опрос о принятии Учения есть вопрос жизни и смерти для всего и для всех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дь за водородной бомбой может последовать другая, могущая вызвать разложение материи, границы и область распространения которого человекоубийцы не в состоянии предусмотреть. Новые формы жизни должны заменить старые и отжившие. Возможность войны должна быть полностью исключена. Новое Небо труда и строительства, и сотрудничества всех народов Земли должно засиять над Зем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. Наша Рука над новыми формами жизни народов, какими бы несовершенными они не казались близорукому сознанию. Страна Новая и Мир Новый, ею возглавляемый, победит. Новые формы общественной и государственной жизни утвердятся на Земле. В них спасение. Жертвы приносимые неизбежны. Когда же эволюция совершалась без жертв и смерти форм, обречённых ею на уничтожение? Шире широкого смотрите на жизнь. Новому должное воздайте. Часто не знают строители всего величия Великого Плана, но знают Владык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50040" cy="5079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79280" y="5877000"/>
            <a:ext cx="432108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www.roerich.com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 валов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го проду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и истинного и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са прогресса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., д.э.н. Кендю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в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«Экономика – произ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водная от мировоз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зре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076640" y="1844640"/>
            <a:ext cx="440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Стратегический выход через философское осмысление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., д.э.н. Кендюхов А.В. </a:t>
            </a: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«Экономика – производная от мировоззр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004d"/>
                </a:solidFill>
                <a:latin typeface="Arial"/>
              </a:rPr>
              <a:t>Лечить экономику, не леча мировоз-зрение все равно что сбивать температуру, не леча саму боле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 поменять приоритеты и не согласовать путь развития человечества с глобальным эволюционизмом, то результаты легко предсказать, просто продлив график. Таким образом, вектор развития цивилизации направлен на уничтожение этой самой цивилизации. Метазнание подтверждает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Знаковое высказывание П.Ф.Беликова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шающими моментами эволюции никогда не были и не будут мировая политика или мировая экономика. Ведь целью эволюции не является создание политически правильно мыслящего человека, а человека, способного мыслить космическими категориями. Политика, экономика, все созданные ими общественные формации лишь на более мелких и временных примерах учат человека разбираться в сущем. Было бы нелепо думать, что “справедливость” или “несправедливость” этих недолговечных форм общественной жизни человека являются присущими “Космическому Разуму мерками”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Метазнание: (Агни Йога, Учение Храма, Теософия)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мическая волна может сместить не только отдельного человека и народ или континент, но даже целую расу и целую планету, если будет явлено сопротивление, задерживающее эволюцию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мирает всё, не отвечающее ступени Эволюци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усилия Учителей направлены на решение великих мировых проблем религии, образования, науки и государственного устр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лобализация экономического и политического устройства человечества на пути к Братству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хваленые современные системы образования наносят вред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 вводят молодежь в заблуждение, что тысячи выпускников учебных заведений выходят оттуда неготовыми к жизни и к выполнению долга;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молодые люди позорят специальности, в которых мнят себя профессионалам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или становятся торговцами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До тех пор пока будет господствовать нынешний идеал цивилизации, основанный лишь на материальных ценностях, человека будут удовлетворять плоды современного образования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этом смысле нам близок подход авторов работы Майкла Кремо и Ричарда Томпсона «Запрещенная история»: «Посвящается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асширяющемуся кругу ученых и филологов, способных рискнуть профессиональным престижем, положением и привилегиями ради столь эфемерной субстанции, как истин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Наука как часть духовной культуры.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стрийский и английский философ, логик, социолог и науковед К.Поппер: «Нам следует привыкнуть понимать науку не как «совокупность знаний», а как систему гипотез, т.е. догадок и предвосхищений, которые в принципе не могут быть обоснованы, но которые мы используем до тех пор, пока они выдерживают проверки, и о которых мы никогда не можем с полной уверенностью говорить, что они «истинны», более или менее «достоверны» или даже «вероятны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ка из «кладбища гипотез» (Пуанкаре) превращается в истинную науку только при прохождении всех методологических тестов, а потому имеют право на существование любые знания». От себя добавим — и эзотерические в том числе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разование как феномен культуры, который не ставит задачу поиска истины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к показывает современное состояние образования, отражаемое в педагогической науке, как в теории, так и на практике, осуществляемой по ее законам, принципам и методам. Оно представляет собой проблемный многогранник, анализ которого позволяет начать с главной проблемы — цели педагогики, из начал идеалов которой, по нашему мнению, сегодня ничего не востребован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по сути, педагогика является ведомой, а ведь её главная функция — поиск истины, и она должна быть ведущей и вести это самое гражданское общество к Истине. Всадник и лошадь поменялись местами, низшее пытается управлять высшим — на лицо мировоззренческий кризис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сожалению, не познание истины, а выгода, бизнес, социальный заказ выходят на первый план. (Л.М.Гиндили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Сергей Джура</cp:lastModifiedBy>
  <dcterms:modified xsi:type="dcterms:W3CDTF">2013-03-25T11:03:26Z</dcterms:modified>
  <cp:revision>61</cp:revision>
  <dc:subject/>
  <dc:title>COIN Project: lessons learned during the first year of the project</dc:title>
</cp:coreProperties>
</file>