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5002-BF3B-40F0-8350-C1563C85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A0ED-A023-4F06-81E5-61869DF5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CEFE-03D8-4E6A-91BC-9B0DC90A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B951-E7FA-4B18-9E3D-BB22B808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C7EB-FFF9-49ED-B57E-F59FEBF3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2920-B96C-46B1-A052-D558911A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1D48-D0B8-4770-8141-AE6EE8DB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A60D-2CF3-4E6B-B75A-EA4CCC35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ACB7-66C6-4745-BB95-37ED2C75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53DF-F915-45CB-9686-50330462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60D5-D2AD-4D4D-A29C-660BD7F8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4E17-F08D-4E4D-B1D4-FB452970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5548-B3F4-44B4-A32E-4F6D5BE7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11E0-3016-41F4-9D1A-A06858E3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B2D4-69E4-4C67-A63C-9D519395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F2BC-A853-4A8F-BA84-D9E40B80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9D59-6FD2-42DA-AE18-58C82ED3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FBA4-6CEB-497A-9B4C-F46C3B76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5030-7A33-4721-BD4D-DEB67BD0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8B49-CBC1-4D18-A3D5-2DB29F74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BD7-C9C8-4E7F-9350-A28D27E2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987E-E8BC-415F-8163-DAE5D1D2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7447-D34E-4810-AFEB-F3405536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8179-0100-4B45-8F99-95C971B6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3E4C-8980-447F-A98C-8803A4E00B2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0F60-9413-411E-B439-04847E30FE7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zhura@roerich.com" TargetMode="External"/><Relationship Id="rId2" Type="http://schemas.openxmlformats.org/officeDocument/2006/relationships/hyperlink" Target="http://www.roerich.com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hyperlink" Target="http://ru.wikipedia.org/wiki/&#1060;&#1072;&#1081;&#1083;:Angelsatmamre-trinity-rublev-1410.jp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6848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МНОГОМЕРНОСТЬ СОЗНАНИЯ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564000" y="3049560"/>
            <a:ext cx="3533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Джура С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 Unicode MS"/>
                <a:hlinkClick r:id="rId1"/>
              </a:rPr>
              <a:t>dzhura@roerich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(062) 337-32-6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 Unicode MS"/>
                <a:hlinkClick r:id="rId2"/>
              </a:rPr>
              <a:t>www.roerich.com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donntu_gerb1"/>
          <p:cNvPicPr/>
          <p:nvPr/>
        </p:nvPicPr>
        <p:blipFill>
          <a:blip r:embed="rId3"/>
          <a:stretch/>
        </p:blipFill>
        <p:spPr>
          <a:xfrm>
            <a:off x="7451640" y="549360"/>
            <a:ext cx="1479600" cy="2087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24000" y="2924280"/>
            <a:ext cx="309564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Гипотеза объединения многомерности сознания разных традиций 7 + 4 = 11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159440" cy="4680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4160880" cy="4399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423px-Banner_of_Peace_from_the_Roerich_Pact.svg.png"/>
          <p:cNvPicPr/>
          <p:nvPr/>
        </p:nvPicPr>
        <p:blipFill>
          <a:blip r:embed="rId3"/>
          <a:stretch/>
        </p:blipFill>
        <p:spPr>
          <a:xfrm>
            <a:off x="4284720" y="177336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Выводы (1)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в данной статье сводится воедино современная физическая картина мира (многомерность сознания) с древняя эзотерической доктриной. Решение этого внешнего противоречия пока является теоретическим и ждет проверки практикой. Хотя в приложении к сознанию это будет сделать крайне трудно. Но, тем не менее, гипотеза есть. Пусть это будет малым приближением в осмыслении великого понятия Сознания, которое ведет человечество в эволюцию. Ведь не даром сказано, что «Это есть ЕДИНАЯ ЖИЗНЬ, вечная, невидимая и, в то же время, вездесущая, без начала и конца, но периодичная в своих регулярных проявлениях, между которыми царствует мрак тайны Не-Бытия; несознательное, вместе с тем Абсолютное Сознание, непостижимая, тем не менее, единая самосущая Реальность; истинно, Хаос для чувств, Космос для разума. На эзотерическом языке ее единое абсолютное свойство, вечно непрекращающееся Движение, называется Великим Дыханием, и является непрестанным движением Вселенной в смысле беспредельного, вечносущего Пространства. То, что лишено движения не может быть Божественным. Но фактически и в действительности нет ничего абсолютно неподвижного во Вселенской Душе». Е.П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Выводы (2)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Придет время, когда скрытые тайны природы и Высшее знание, находящееся ныне в обладании Великих Учителей, станут доступными массам. К этому ведут человечество те, кто идет впереди, непосредственно руководимые Владыками Света. И конечно, и прежде всего Сами Великие Учителя, время от времени приходящие на Землю и живущие среди людей. Цель их одна – дать людям знание, и притом так, чтобы они им не злоупотребили. Опасность этого злоупотребления велика. Могут уничтожить Землю. Потому путями непосредственного познавания Ведем лишь немногих избранных, проверенных и испытанных на протяжении тысячелетий совместной работы. Только им Доверяем и Будем давать через них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рани Агни Йоги 1957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Анонс работ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Проанализированы древнейшие теории состава человека и его сознания, а также современные физические теории. 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Аргументирована гипотеза  объединения эзотерической и современной физической картины мир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Это посильный вклад в приближение к выполнению завета Агни Йоги о том, что </a:t>
            </a:r>
            <a:r>
              <a:rPr b="1" i="1" lang="ru-RU" sz="2700" spc="-1" strike="noStrike">
                <a:solidFill>
                  <a:srgbClr val="330066"/>
                </a:solidFill>
                <a:latin typeface="Arial"/>
              </a:rPr>
              <a:t>«древние символы знания должны превратиться в научные формулы».</a:t>
            </a:r>
            <a:r>
              <a:rPr b="1" lang="ru-RU" sz="27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Агни Йога, Братство, Ч.1, 42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остановка задач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Семеричность сознания и тел человека в эзотерической традиции (теософия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Трехмерность в Агни Йоге (плотный, тонкий и Огненный Миры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11-мерностью современной физической теории суперструн и М-теор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...Теория струн на самом деле является частью ещ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лее грандиозного синтеза, который в настоящее время имеет (несколько мистическое) название М-теории..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айан Грин «Элегантная Вселенная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848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313160" cy="6351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003640" y="981000"/>
            <a:ext cx="3384720" cy="56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«физическая и психическая реальности имеют неразрывную взаимосвязь и являются лишь частными случаями еще мало осмысленной в своей многомерной сложности интегральной космической Реа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С.Р.Абл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Так что верно 7-3-11 ??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819600" cy="4038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423px-Banner_of_Peace_from_the_Roerich_Pact.svg.png"/>
          <p:cNvPicPr/>
          <p:nvPr/>
        </p:nvPicPr>
        <p:blipFill>
          <a:blip r:embed="rId2"/>
          <a:stretch/>
        </p:blipFill>
        <p:spPr>
          <a:xfrm>
            <a:off x="4067280" y="2060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516720" y="1700280"/>
            <a:ext cx="2333520" cy="381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Angelsatmamre-trinity-rublev-141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1989000"/>
            <a:ext cx="285732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ессмертная триад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7" name="" descr="Фото М. В. Нестеров. Троица Ветхозаветная"/>
          <p:cNvPicPr/>
          <p:nvPr/>
        </p:nvPicPr>
        <p:blipFill>
          <a:blip r:embed="rId1"/>
          <a:stretch/>
        </p:blipFill>
        <p:spPr>
          <a:xfrm>
            <a:off x="468360" y="1557360"/>
            <a:ext cx="7272360" cy="47642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423px-Banner_of_Peace_from_the_Roerich_Pact.svg.png"/>
          <p:cNvPicPr/>
          <p:nvPr/>
        </p:nvPicPr>
        <p:blipFill>
          <a:blip r:embed="rId2"/>
          <a:stretch/>
        </p:blipFill>
        <p:spPr>
          <a:xfrm>
            <a:off x="6300720" y="33336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Теософическая традиция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(пояснения Е.И.Рерих Том III (1935 г.). «К семеричному подразделению тела человека»: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1. Физическое те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2. Эфирный двойник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ываемый низшим астральным телом). Многие феномены на спиритических сеансах совершаются при помощи, именно, эфирного двойника медиу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3. Пран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жизненный принцип, нераздельный от всех проявлений в Космо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4. Кам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животная душа (или высшее астральное тело, через которое проявляется желание в двух аспектах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Кама-Манас - низший ум или интелле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Кама-Рупа - форма (субъективная форма ментальных и физических желаний и мыслей, или мыслитель в действии).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5. Мана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самосознание или мыслитель (Высший Разу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6. Буддх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духовность, духовная душа - в отличие от человеческо-животной души - проводник, через который проявляется Ат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66"/>
                </a:solidFill>
                <a:uFillTx/>
                <a:latin typeface="Arial"/>
              </a:rPr>
              <a:t>7. Атм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Дух, или огненное начало, или энергия, разлитая во всем Космос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0066"/>
                </a:solidFill>
                <a:latin typeface="Arial"/>
              </a:rPr>
              <a:t>Совмещение теософической и Агни-Йогический позиции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Философский язык Живот Этики – Агни Йоги, конечно, не лишен восточной терминологии и оригинальной стилистики по сравнению с теософией. Однако по многим своим параметрам он оказался проще и доступнее языка теософского текста 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 века. Так, в частности, теософская </a:t>
            </a: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семиуровнев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нтологических паттернов космической реальности в Живой Этике трансформируется в более простую </a:t>
            </a:r>
            <a:r>
              <a:rPr b="1" lang="ru-RU" sz="2800" spc="-1" strike="noStrike" u="sng">
                <a:solidFill>
                  <a:srgbClr val="330066"/>
                </a:solidFill>
                <a:uFillTx/>
                <a:latin typeface="Arial"/>
              </a:rPr>
              <a:t>трехуровневую модель</a:t>
            </a: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и уровни реальности называются «Плотный мир», «Тонкий мир» и «Огненный мир»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Р.Абле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8:35:35Z</dcterms:created>
  <dc:creator>Fernando Merello</dc:creator>
  <dc:description/>
  <dc:language>en-US</dc:language>
  <cp:lastModifiedBy>Admin</cp:lastModifiedBy>
  <dcterms:modified xsi:type="dcterms:W3CDTF">2011-03-30T14:23:07Z</dcterms:modified>
  <cp:revision>43</cp:revision>
  <dc:subject/>
  <dc:title>COIN Project: lessons learned during the first year of the project</dc:title>
</cp:coreProperties>
</file>