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23.png" ContentType="image/png"/>
  <Override PartName="/ppt/media/image22.jpeg" ContentType="image/jpe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.png" ContentType="image/png"/>
  <Override PartName="/ppt/media/image24.png" ContentType="image/png"/>
  <Override PartName="/ppt/media/image2.wmf" ContentType="image/x-wmf"/>
  <Override PartName="/ppt/media/image3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9B0-AE21-42DD-8B90-CAC7E878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66E-EDA5-47BF-A256-90D70B29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395-8AD6-4DBE-810B-BF1823CA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8AB6-F8D5-4C71-8665-AA201269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682-EAB2-4FE1-A6A9-AB7AD55B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34A5-4DE3-4E1C-9C07-50E6D00F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9B13-DD21-4933-AA9D-17721648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404D-A21C-46F5-9239-8FE012BA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953-2B2F-4DE4-AA5C-69F0017E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190-802A-40AC-A8A3-80EC6513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3A2-CBBD-4A5E-B78C-0100E0E5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E8E-4CF0-40DC-AA54-BEF870BD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8446-B0D7-412E-9EEC-00E49BA953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чет по теме Д-309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«Теоретичне обгрунтування та експериментальне дослідження методів та технічних засобів порятунку гірників, що застигнуті пожежею в тупикових виробках шах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5660640"/>
            <a:ext cx="9144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окладчик Булгаков Ю.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495360"/>
          <a:ext cx="9144000" cy="6362640"/>
        </p:xfrm>
        <a:graphic>
          <a:graphicData uri="http://schemas.openxmlformats.org/drawingml/2006/table">
            <a:tbl>
              <a:tblPr/>
              <a:tblGrid>
                <a:gridCol w="444600"/>
                <a:gridCol w="760320"/>
                <a:gridCol w="1009800"/>
                <a:gridCol w="1000080"/>
                <a:gridCol w="2020680"/>
                <a:gridCol w="1514520"/>
                <a:gridCol w="1187640"/>
                <a:gridCol w="1206360"/>
              </a:tblGrid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омер п.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омер отря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ата начала ава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ата окончания ава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Руководящая струк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Шах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ид пожара и способ ликви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пособ ликвид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ожа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.02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.02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Луганскуг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м. Артё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кзоген., 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.02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.02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ервомайскуг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Тошковс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кзоген., 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7.03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.03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расноармейскуг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м. А.Г. Стахан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кзоген., изоля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золя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8.04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8.04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амостоя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еревальс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кзоген., 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9.07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.07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онецкуг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м. Е.Т. Абакум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кзоген., 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.08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.08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раснодонуг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реховс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кзоген., 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.09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6.09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Макеевуг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Калиновская –Восточ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кзоген., 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.1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.11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амостоя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Белореченс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кзоген., 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.12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.12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Ровенькиантрац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м. С.М. Фрунз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кзоген., 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1.12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1.12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Львовуг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Междуреченс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кзогенный пож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золя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.12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2.12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Макеевуг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Бутовск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кзогенный пож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ктив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3.09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0.09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Добропольеуг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ион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Эндогенный пожа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золя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1336320" y="-720"/>
            <a:ext cx="641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пособы ликвидации подземных пожаров в 2010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324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9144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оретические исследования аэродинамических процессов в горных выработках для обоснования теплофизических параметров камер – убежищ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3789000"/>
            <a:ext cx="9144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0" y="1413000"/>
                <a:ext cx="735804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ρu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D</m:t>
                        </m:r>
                      </m:den>
                    </m:f>
                    <m:sSup>
                      <m:e>
                        <m:r>
                          <m:t xml:space="preserve">ρи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ρq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4149720"/>
                <a:ext cx="291132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д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ρu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0" y="40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0" y="5589720"/>
                <a:ext cx="219564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R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7928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0" y="2565360"/>
                <a:ext cx="932508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ρ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ρu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д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д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д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  <m:r>
                          <m:t xml:space="preserve">U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0"/>
            <a:ext cx="91440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матическая модель для описания аэротермодинамических процессов в горных выработках при пожарах и постановка задачи нестационарного тепломассоперено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намика температурного поля в аварийной горной выработке при пожар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0" y="1916280"/>
                <a:ext cx="5580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Т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й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дТ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д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а</m:t>
                    </m:r>
                    <m:f>
                      <m:num>
                        <m:sSup>
                          <m:e>
                            <m:r>
                              <m:t xml:space="preserve">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Т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Т</m:t>
                            </m:r>
                          </m:sub>
                        </m:sSub>
                        <m:r>
                          <m:t xml:space="preserve">U</m:t>
                        </m:r>
                      </m:num>
                      <m:den>
                        <m:sSub>
                          <m:e>
                            <m:r>
                              <m:t xml:space="preserve">cρ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m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0" y="3068640"/>
                <a:ext cx="62276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0" y="3789360"/>
                <a:ext cx="1908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900000" y="4581360"/>
                <a:ext cx="6372360" cy="18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U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ρ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йS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68360" y="189000"/>
                <a:ext cx="752472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0" y="1700280"/>
                <a:ext cx="89647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b>
                    </m:sSub>
                    <m:sSubSup>
                      <m:e>
                        <m:r>
                          <m:t xml:space="preserve">=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Td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й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кL</m:t>
                            </m:r>
                          </m:den>
                        </m:f>
                      </m:e>
                    </m:nary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t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α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кt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кt</m:t>
                                </m:r>
                              </m:sup>
                            </m:sSup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0" y="3129120"/>
                <a:ext cx="91440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|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L</m:t>
                        </m:r>
                      </m:num>
                      <m:den>
                        <m:r>
                          <m:t xml:space="preserve">й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α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sup>
                        </m:sSup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α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t</m:t>
                                </m:r>
                              </m:e>
                            </m:acc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4356000" cy="2679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140360" y="3645000"/>
            <a:ext cx="5003640" cy="2590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040" y="332640"/>
            <a:ext cx="89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едней температуры пожарных газов в аварийной горной выработ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-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лияние пожара на аэротермодинамические параметры вентиляционного потока в горных выработка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63640" y="907920"/>
            <a:ext cx="4680000" cy="4332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797200" y="3071880"/>
                <a:ext cx="2570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р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797200" y="3643200"/>
                <a:ext cx="12384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-6840" y="5358600"/>
            <a:ext cx="92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массового расхода воздух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зависимости от времени развития пож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98280" y="378504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5600" y="188280"/>
            <a:ext cx="83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ложения по защите горнорабочих и горноспасателей при авари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908000" y="981000"/>
            <a:ext cx="4686120" cy="3657240"/>
            <a:chOff x="1908000" y="981000"/>
            <a:chExt cx="4686120" cy="365724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1908000" y="981000"/>
              <a:ext cx="4671000" cy="33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342160" y="4473000"/>
              <a:ext cx="4251960" cy="1652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- Аппарат спасательный передвижной АС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-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основание параметров средств защиты для спасения людей в тупиковых выработ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105440" cy="3510000"/>
          </a:xfrm>
          <a:prstGeom prst="rect">
            <a:avLst/>
          </a:prstGeom>
          <a:ln w="0">
            <a:noFill/>
          </a:ln>
        </p:spPr>
      </p:pic>
      <p:pic>
        <p:nvPicPr>
          <p:cNvPr id="109" name="Tachka" descr=""/>
          <p:cNvPicPr/>
          <p:nvPr/>
        </p:nvPicPr>
        <p:blipFill>
          <a:blip r:embed="rId2"/>
          <a:stretch/>
        </p:blipFill>
        <p:spPr>
          <a:xfrm>
            <a:off x="4211640" y="3157560"/>
            <a:ext cx="45007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684360" y="0"/>
            <a:ext cx="8172360" cy="9118440"/>
            <a:chOff x="684360" y="0"/>
            <a:chExt cx="8172360" cy="911844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1331640" y="0"/>
              <a:ext cx="5781600" cy="9005760"/>
            </a:xfrm>
            <a:prstGeom prst="rect">
              <a:avLst/>
            </a:prstGeom>
            <a:ln w="9360">
              <a:solidFill>
                <a:srgbClr val="99cc00"/>
              </a:solidFill>
              <a:miter/>
            </a:ln>
          </p:spPr>
        </p:pic>
        <p:sp>
          <p:nvSpPr>
            <p:cNvPr id="46" name=""/>
            <p:cNvSpPr/>
            <p:nvPr/>
          </p:nvSpPr>
          <p:spPr>
            <a:xfrm>
              <a:off x="684360" y="6237360"/>
              <a:ext cx="8172360" cy="28810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60320" y="-720"/>
            <a:ext cx="74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ИФУНКЦИОНАЛЬНЫЙ ГОРНО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ПАСАТЕЛЬ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ПЛ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Заявлист1а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1866600" cy="2409840"/>
          </a:xfrm>
          <a:prstGeom prst="rect">
            <a:avLst/>
          </a:prstGeom>
          <a:ln w="0">
            <a:noFill/>
          </a:ln>
        </p:spPr>
      </p:pic>
      <p:pic>
        <p:nvPicPr>
          <p:cNvPr id="112" name="Пат3лист1_2" descr=""/>
          <p:cNvPicPr/>
          <p:nvPr/>
        </p:nvPicPr>
        <p:blipFill>
          <a:blip r:embed="rId2"/>
          <a:stretch/>
        </p:blipFill>
        <p:spPr>
          <a:xfrm>
            <a:off x="2843280" y="692280"/>
            <a:ext cx="3743280" cy="2495520"/>
          </a:xfrm>
          <a:prstGeom prst="rect">
            <a:avLst/>
          </a:prstGeom>
          <a:ln w="0">
            <a:noFill/>
          </a:ln>
        </p:spPr>
      </p:pic>
      <p:pic>
        <p:nvPicPr>
          <p:cNvPr id="113" name="Пат3лист2" descr=""/>
          <p:cNvPicPr/>
          <p:nvPr/>
        </p:nvPicPr>
        <p:blipFill>
          <a:blip r:embed="rId3"/>
          <a:stretch/>
        </p:blipFill>
        <p:spPr>
          <a:xfrm>
            <a:off x="0" y="3429000"/>
            <a:ext cx="3714840" cy="2219400"/>
          </a:xfrm>
          <a:prstGeom prst="rect">
            <a:avLst/>
          </a:prstGeom>
          <a:ln w="0">
            <a:noFill/>
          </a:ln>
        </p:spPr>
      </p:pic>
      <p:pic>
        <p:nvPicPr>
          <p:cNvPr id="114" name="Пат3лист3" descr=""/>
          <p:cNvPicPr/>
          <p:nvPr/>
        </p:nvPicPr>
        <p:blipFill>
          <a:blip r:embed="rId4"/>
          <a:stretch/>
        </p:blipFill>
        <p:spPr>
          <a:xfrm>
            <a:off x="6683400" y="836640"/>
            <a:ext cx="20192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91652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45840" y="907560"/>
            <a:ext cx="62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тент на корисну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4528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Установка для рятування гірників при аваріях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73960" y="1772640"/>
            <a:ext cx="51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тент на винах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 №7873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 нормалізації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атмосферних умов в лав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5840" y="2780640"/>
            <a:ext cx="62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тент на корисну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4528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Установка для рятування гірників при аваріях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228560"/>
            <a:ext cx="93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особ прогнозування авар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йних ситуацій в підземних гірничих виробках. Патент на корисну модель № 4545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760" y="5157000"/>
            <a:ext cx="81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а для рятування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ірників при аваріях Патент на винахід № 884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6800" y="6020640"/>
            <a:ext cx="86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ка для захисту робітників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від перегрівання. Патент на винахід № 706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3760" y="189000"/>
            <a:ext cx="73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6600"/>
                </a:solidFill>
                <a:latin typeface="Arial"/>
              </a:rPr>
              <a:t>Патенти на винахіди отримані при виконанні держтеми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692280"/>
          <a:ext cx="9144000" cy="6164280"/>
        </p:xfrm>
        <a:graphic>
          <a:graphicData uri="http://schemas.openxmlformats.org/drawingml/2006/table">
            <a:tbl>
              <a:tblPr/>
              <a:tblGrid>
                <a:gridCol w="601560"/>
                <a:gridCol w="3157560"/>
                <a:gridCol w="947880"/>
                <a:gridCol w="947520"/>
                <a:gridCol w="789120"/>
                <a:gridCol w="947880"/>
                <a:gridCol w="947520"/>
                <a:gridCol w="804960"/>
              </a:tblGrid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ГВГСС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МУ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за 2006 – 2009г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за 2006 – 2009г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за  2006 – 2009г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 за 2006 – 2009г.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острадавших по данным пред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число потерпевших, которым оказана помощь врачами РПГ, 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травмированных, 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яжело травмированных, че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едено из критического состояния, че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тяжело травмированных от общего числа потерпевших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от общего числа тяжело травмированных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боль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05000" y="-360"/>
            <a:ext cx="8159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намика тяжести травматизма на обслуживаемых предприятиях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ным выездов реанимационно - противошоковых групп ГВГ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896472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692280"/>
          <a:ext cx="8964360" cy="6235200"/>
        </p:xfrm>
        <a:graphic>
          <a:graphicData uri="http://schemas.openxmlformats.org/drawingml/2006/table">
            <a:tbl>
              <a:tblPr/>
              <a:tblGrid>
                <a:gridCol w="544680"/>
                <a:gridCol w="1721520"/>
                <a:gridCol w="675360"/>
                <a:gridCol w="800640"/>
                <a:gridCol w="618840"/>
                <a:gridCol w="618480"/>
                <a:gridCol w="618840"/>
                <a:gridCol w="618480"/>
                <a:gridCol w="618840"/>
                <a:gridCol w="618480"/>
                <a:gridCol w="793800"/>
                <a:gridCol w="716400"/>
              </a:tblGrid>
              <a:tr h="507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№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  2004 по 200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реднее за 2004-2009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 том числе по год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о ГВГ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о МУ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ожаров экзог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ожаров эндог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зрывов газа и угольной пы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незапных выброс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Обрушений пор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Затоп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варий на поверх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СЕГО АВА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варийных ситу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СЕГО АВАРИЙ И АВАРИЙНЫХ СИТУ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0" y="-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атистические данные видов аварий, ликвидированных ГВГСС на всех обслуживаемых предприяти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-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варии и аварийные ситуации, ликвидированные подразделениями ГВГСС за 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50920" y="1125360"/>
            <a:ext cx="8083440" cy="4892760"/>
            <a:chOff x="250920" y="1125360"/>
            <a:chExt cx="8083440" cy="4892760"/>
          </a:xfrm>
        </p:grpSpPr>
        <p:grpSp>
          <p:nvGrpSpPr>
            <p:cNvPr id="55" name=""/>
            <p:cNvGrpSpPr/>
            <p:nvPr/>
          </p:nvGrpSpPr>
          <p:grpSpPr>
            <a:xfrm>
              <a:off x="250920" y="1125360"/>
              <a:ext cx="3598920" cy="4892760"/>
              <a:chOff x="250920" y="1125360"/>
              <a:chExt cx="3598920" cy="4892760"/>
            </a:xfrm>
          </p:grpSpPr>
          <p:pic>
            <p:nvPicPr>
              <p:cNvPr id="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1125360"/>
                <a:ext cx="3598920" cy="194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920" y="3500280"/>
                <a:ext cx="3598920" cy="2517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" name=""/>
            <p:cNvGrpSpPr/>
            <p:nvPr/>
          </p:nvGrpSpPr>
          <p:grpSpPr>
            <a:xfrm>
              <a:off x="4735440" y="1125360"/>
              <a:ext cx="3598920" cy="4730760"/>
              <a:chOff x="4735440" y="1125360"/>
              <a:chExt cx="3598920" cy="4730760"/>
            </a:xfrm>
          </p:grpSpPr>
          <p:pic>
            <p:nvPicPr>
              <p:cNvPr id="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35440" y="3500280"/>
                <a:ext cx="3598920" cy="235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735440" y="1125360"/>
                <a:ext cx="3598920" cy="2025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1268280"/>
          <a:ext cx="8675280" cy="5589360"/>
        </p:xfrm>
        <a:graphic>
          <a:graphicData uri="http://schemas.openxmlformats.org/drawingml/2006/table">
            <a:tbl>
              <a:tblPr/>
              <a:tblGrid>
                <a:gridCol w="1839240"/>
                <a:gridCol w="804960"/>
                <a:gridCol w="682560"/>
                <a:gridCol w="681840"/>
                <a:gridCol w="682200"/>
                <a:gridCol w="682200"/>
                <a:gridCol w="805320"/>
                <a:gridCol w="767160"/>
                <a:gridCol w="968400"/>
                <a:gridCol w="761400"/>
              </a:tblGrid>
              <a:tr h="375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сего з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4-2009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ГВГ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МУ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людей выведенных и эвакуированных при  авариях и аварийных ситуациях подразделениями ГВГСС и членами ВГК, всего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17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4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9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34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0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9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9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реднее количество людей, которые подвергаются опасности   при аварии или аварийной ситу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5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0" y="188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личество людей выведенных при авариях и аварий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итуациях с аварийных и угрожаемых участков (выработок) на всех обслуживаемых предприятия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9:16:01Z</dcterms:created>
  <dc:creator>1</dc:creator>
  <dc:description/>
  <dc:language>en-US</dc:language>
  <cp:lastModifiedBy>1</cp:lastModifiedBy>
  <dcterms:modified xsi:type="dcterms:W3CDTF">2011-12-16T10:38:14Z</dcterms:modified>
  <cp:revision>30</cp:revision>
  <dc:subject/>
  <dc:title> Отчет по теме Д-309 «Теоретичне обґрунтування та експериментальне дослідження методів та технічних засобів порятунку гірників, що застигнуті пожежею в тупикових виробках шахт»</dc:title>
</cp:coreProperties>
</file>