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.png" ContentType="image/png"/>
  <Override PartName="/ppt/media/image24.png" ContentType="image/png"/>
  <Override PartName="/ppt/media/image2.wmf" ContentType="image/x-wmf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150-4CA7-40B5-B050-7DF7F990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73C-394A-4C4A-AE79-4EA0E552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A2D-1A0D-4F7B-BE95-01048656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44B-7962-43FE-B6AB-C57D7A18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89D-76B5-4BC7-859C-E13805C2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3EE-F55B-497E-A79F-03469C09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D62-DDF1-448D-B5C0-6DC1CCF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DB9-495C-4F1B-8FA5-F6C74A9D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E5F-BB79-45B0-B4A4-3D1FC500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609-BB4B-4616-9E77-D2176551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678-2AE3-463C-9D3F-F1AC6EA1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CB7-BD45-4EDA-A6C4-E88D9EF5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3C40-A140-4662-A6DF-2F9800B3F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чет по теме Д-309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«Теоретичне обгрунтування та експериментальне дослідження методів та технічних засобів порятунку гірників, що застигнуті пожежею в тупикових виробках шах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566064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чик Булгаков Ю.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495360"/>
          <a:ext cx="9144000" cy="6362640"/>
        </p:xfrm>
        <a:graphic>
          <a:graphicData uri="http://schemas.openxmlformats.org/drawingml/2006/table">
            <a:tbl>
              <a:tblPr/>
              <a:tblGrid>
                <a:gridCol w="444600"/>
                <a:gridCol w="760320"/>
                <a:gridCol w="1009800"/>
                <a:gridCol w="1000080"/>
                <a:gridCol w="2020680"/>
                <a:gridCol w="1514520"/>
                <a:gridCol w="1187640"/>
                <a:gridCol w="1206360"/>
              </a:tblGrid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омер п.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омер отря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ата начала ав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ата окончания ав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уководящая 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Шах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ид пожара и способ ликви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пособ ликви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ж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.0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.0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Луганск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м. Артё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.0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.0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ервомайск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Тошков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.0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.0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расноармейск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м. А.Г. Стахан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изоля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золя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8.04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8.04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амостоя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ереваль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9.07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.07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онецк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м. Е.Т. Абакум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.08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.08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раснодон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рехов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.09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.09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акеев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алиновская –Восточ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.1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.1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амостоя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елоречен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овенькиантрац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м. С.М. Фрун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Львов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еждуречен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ный пож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золя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2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акеев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утов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ный пож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.09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0.09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оброполье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ион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ндогенный пож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золя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336320" y="-720"/>
            <a:ext cx="64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собы ликвидации подземных пожаров в 2010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2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етические исследования аэродинамических процессов в горных выработках для обоснования теплофизических параметров камер – убежищ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378900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0" y="1413000"/>
                <a:ext cx="73580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ρu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ρ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ρq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4149720"/>
                <a:ext cx="29113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д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u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40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0" y="5589720"/>
                <a:ext cx="21956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7928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0" y="2565360"/>
                <a:ext cx="93250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ρ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ρu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д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  <m:r>
                          <m:t xml:space="preserve">U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матическая модель для описания аэротермодинамических процессов в горных выработках при пожарах и постановка задачи нестационарного тепломассопере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намика температурного поля в аварийной горной выработке при пожар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0" y="1916280"/>
                <a:ext cx="5580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й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а</m:t>
                    </m:r>
                    <m:f>
                      <m:num>
                        <m:sSup>
                          <m:e>
                            <m:r>
                              <m:t xml:space="preserve">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Т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c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0" y="3068640"/>
                <a:ext cx="6227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0" y="3789360"/>
                <a:ext cx="1908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00000" y="4581360"/>
                <a:ext cx="637236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U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йS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68360" y="189000"/>
                <a:ext cx="75247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1700280"/>
                <a:ext cx="89647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sSubSup>
                      <m:e>
                        <m:r>
                          <m:t xml:space="preserve">=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Td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й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кL</m:t>
                            </m:r>
                          </m:den>
                        </m:f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к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t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0" y="3129120"/>
                <a:ext cx="9144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|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L</m:t>
                        </m:r>
                      </m:num>
                      <m:den>
                        <m:r>
                          <m:t xml:space="preserve">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sup>
                        </m:sSup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356000" cy="2679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40360" y="3645000"/>
            <a:ext cx="5003640" cy="2590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40" y="332640"/>
            <a:ext cx="89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едней температуры пожарных газов в аварийной горной выработ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ияние пожара на аэротермодинамические параметры вентиляционного потока в горных выработ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4680000" cy="4332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97200" y="3071880"/>
                <a:ext cx="257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797200" y="364320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-6840" y="5358600"/>
            <a:ext cx="92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массового расхода воздух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зависимости от времени развития пож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98280" y="378504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5600" y="188280"/>
            <a:ext cx="83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ложения по защите горнорабочих и горноспасателей при авар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08000" y="981000"/>
            <a:ext cx="4686120" cy="3657240"/>
            <a:chOff x="1908000" y="981000"/>
            <a:chExt cx="4686120" cy="36572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908000" y="981000"/>
              <a:ext cx="4671000" cy="33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342160" y="4473000"/>
              <a:ext cx="4251960" cy="1652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Аппарат спасательный передвижной АС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основание параметров средств защиты для спасения людей в тупиковых выработ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105440" cy="3510000"/>
          </a:xfrm>
          <a:prstGeom prst="rect">
            <a:avLst/>
          </a:prstGeom>
          <a:ln w="0">
            <a:noFill/>
          </a:ln>
        </p:spPr>
      </p:pic>
      <p:pic>
        <p:nvPicPr>
          <p:cNvPr id="109" name="Tachka" descr=""/>
          <p:cNvPicPr/>
          <p:nvPr/>
        </p:nvPicPr>
        <p:blipFill>
          <a:blip r:embed="rId2"/>
          <a:stretch/>
        </p:blipFill>
        <p:spPr>
          <a:xfrm>
            <a:off x="4211640" y="3157560"/>
            <a:ext cx="45007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4360" y="0"/>
            <a:ext cx="8172360" cy="9118440"/>
            <a:chOff x="684360" y="0"/>
            <a:chExt cx="8172360" cy="91184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331640" y="0"/>
              <a:ext cx="5781600" cy="9005760"/>
            </a:xfrm>
            <a:prstGeom prst="rect">
              <a:avLst/>
            </a:prstGeom>
            <a:ln w="9360">
              <a:solidFill>
                <a:srgbClr val="99cc00"/>
              </a:solidFill>
              <a:miter/>
            </a:ln>
          </p:spPr>
        </p:pic>
        <p:sp>
          <p:nvSpPr>
            <p:cNvPr id="46" name=""/>
            <p:cNvSpPr/>
            <p:nvPr/>
          </p:nvSpPr>
          <p:spPr>
            <a:xfrm>
              <a:off x="684360" y="6237360"/>
              <a:ext cx="8172360" cy="2881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0320" y="-720"/>
            <a:ext cx="74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ФУНКЦИОНАЛЬНЫЙ ГОРНО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ПАСАТЕЛЬ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Заявлист1а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1866600" cy="2409840"/>
          </a:xfrm>
          <a:prstGeom prst="rect">
            <a:avLst/>
          </a:prstGeom>
          <a:ln w="0">
            <a:noFill/>
          </a:ln>
        </p:spPr>
      </p:pic>
      <p:pic>
        <p:nvPicPr>
          <p:cNvPr id="112" name="Пат3лист1_2" descr=""/>
          <p:cNvPicPr/>
          <p:nvPr/>
        </p:nvPicPr>
        <p:blipFill>
          <a:blip r:embed="rId2"/>
          <a:stretch/>
        </p:blipFill>
        <p:spPr>
          <a:xfrm>
            <a:off x="2843280" y="692280"/>
            <a:ext cx="3743280" cy="2495520"/>
          </a:xfrm>
          <a:prstGeom prst="rect">
            <a:avLst/>
          </a:prstGeom>
          <a:ln w="0">
            <a:noFill/>
          </a:ln>
        </p:spPr>
      </p:pic>
      <p:pic>
        <p:nvPicPr>
          <p:cNvPr id="113" name="Пат3лист2" descr=""/>
          <p:cNvPicPr/>
          <p:nvPr/>
        </p:nvPicPr>
        <p:blipFill>
          <a:blip r:embed="rId3"/>
          <a:stretch/>
        </p:blipFill>
        <p:spPr>
          <a:xfrm>
            <a:off x="0" y="3429000"/>
            <a:ext cx="3714840" cy="2219400"/>
          </a:xfrm>
          <a:prstGeom prst="rect">
            <a:avLst/>
          </a:prstGeom>
          <a:ln w="0">
            <a:noFill/>
          </a:ln>
        </p:spPr>
      </p:pic>
      <p:pic>
        <p:nvPicPr>
          <p:cNvPr id="114" name="Пат3лист3" descr=""/>
          <p:cNvPicPr/>
          <p:nvPr/>
        </p:nvPicPr>
        <p:blipFill>
          <a:blip r:embed="rId4"/>
          <a:stretch/>
        </p:blipFill>
        <p:spPr>
          <a:xfrm>
            <a:off x="6683400" y="836640"/>
            <a:ext cx="20192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652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45840" y="90756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ент на корисну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4528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Установка для рятування гірників при аварі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73960" y="177264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ент на винах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 №787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 нормалізац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атмосферних умов в ла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5840" y="278064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ент на корисну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4528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Установка для рятування гірників при аварі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22856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прогнозування ава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йних ситуацій в підземних гірничих виробках. Патент на корисну модель № 4545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760" y="5157000"/>
            <a:ext cx="81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для рятуванн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рників при аваріях Патент на винахід № 884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6800" y="6020640"/>
            <a:ext cx="86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для захисту робітникі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ід перегрівання. Патент на винахід № 706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3760" y="189000"/>
            <a:ext cx="73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00"/>
                </a:solidFill>
                <a:latin typeface="Arial"/>
              </a:rPr>
              <a:t>Патенти на винахіди отримані при виконанні держтем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692280"/>
          <a:ext cx="9144000" cy="6164280"/>
        </p:xfrm>
        <a:graphic>
          <a:graphicData uri="http://schemas.openxmlformats.org/drawingml/2006/table">
            <a:tbl>
              <a:tblPr/>
              <a:tblGrid>
                <a:gridCol w="601560"/>
                <a:gridCol w="3157560"/>
                <a:gridCol w="947880"/>
                <a:gridCol w="947520"/>
                <a:gridCol w="789120"/>
                <a:gridCol w="947880"/>
                <a:gridCol w="947520"/>
                <a:gridCol w="80496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ГВГСС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 2006 – 2009г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а 2006 – 2009г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  2006 – 2009г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а 2006 – 2009г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радавших по данным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терпевших, которым оказана помощь врачами РПГ,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равмированных,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яжело травмированных,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едено из критического состояния, че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тяжело травмированных от общего числа потерпевших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от общего числа тяжело травмированных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оль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05000" y="-360"/>
            <a:ext cx="815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намика тяжести травматизма на обслуживаемых предприятиях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м выездов реанимационно - противошоковых групп ГВГ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96472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692280"/>
          <a:ext cx="8964360" cy="6235200"/>
        </p:xfrm>
        <a:graphic>
          <a:graphicData uri="http://schemas.openxmlformats.org/drawingml/2006/table">
            <a:tbl>
              <a:tblPr/>
              <a:tblGrid>
                <a:gridCol w="544680"/>
                <a:gridCol w="1721520"/>
                <a:gridCol w="675360"/>
                <a:gridCol w="800640"/>
                <a:gridCol w="618840"/>
                <a:gridCol w="618480"/>
                <a:gridCol w="618840"/>
                <a:gridCol w="618480"/>
                <a:gridCol w="618840"/>
                <a:gridCol w="618480"/>
                <a:gridCol w="793800"/>
                <a:gridCol w="716400"/>
              </a:tblGrid>
              <a:tr h="507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  2004 по 200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реднее за 2004-200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 том числе по год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 ГВГ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 МУ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жаров экзог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жаров эндог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зрывов газа и угольной пы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незапных выбро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рушений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Затоп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варий на поверх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СЕГО АВА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варийных ситу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СЕГО АВАРИЙ И АВАРИЙНЫХ СИТУ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тистические данные видов аварий, ликвидированных ГВГСС на всех обслуживаемых предприят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арии и аварийные ситуации, ликвидированные подразделениями ГВГСС за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0920" y="1125360"/>
            <a:ext cx="8083440" cy="4892760"/>
            <a:chOff x="250920" y="1125360"/>
            <a:chExt cx="8083440" cy="4892760"/>
          </a:xfrm>
        </p:grpSpPr>
        <p:grpSp>
          <p:nvGrpSpPr>
            <p:cNvPr id="55" name=""/>
            <p:cNvGrpSpPr/>
            <p:nvPr/>
          </p:nvGrpSpPr>
          <p:grpSpPr>
            <a:xfrm>
              <a:off x="250920" y="1125360"/>
              <a:ext cx="3598920" cy="4892760"/>
              <a:chOff x="250920" y="1125360"/>
              <a:chExt cx="3598920" cy="489276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1125360"/>
                <a:ext cx="3598920" cy="19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3500280"/>
                <a:ext cx="3598920" cy="2517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"/>
            <p:cNvGrpSpPr/>
            <p:nvPr/>
          </p:nvGrpSpPr>
          <p:grpSpPr>
            <a:xfrm>
              <a:off x="4735440" y="1125360"/>
              <a:ext cx="3598920" cy="4730760"/>
              <a:chOff x="4735440" y="1125360"/>
              <a:chExt cx="3598920" cy="4730760"/>
            </a:xfrm>
          </p:grpSpPr>
          <p:pic>
            <p:nvPicPr>
              <p:cNvPr id="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35440" y="3500280"/>
                <a:ext cx="3598920" cy="235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35440" y="1125360"/>
                <a:ext cx="3598920" cy="202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1268280"/>
          <a:ext cx="8675280" cy="5589360"/>
        </p:xfrm>
        <a:graphic>
          <a:graphicData uri="http://schemas.openxmlformats.org/drawingml/2006/table">
            <a:tbl>
              <a:tblPr/>
              <a:tblGrid>
                <a:gridCol w="1839240"/>
                <a:gridCol w="804960"/>
                <a:gridCol w="682560"/>
                <a:gridCol w="681840"/>
                <a:gridCol w="682200"/>
                <a:gridCol w="682200"/>
                <a:gridCol w="805320"/>
                <a:gridCol w="767160"/>
                <a:gridCol w="968400"/>
                <a:gridCol w="761400"/>
              </a:tblGrid>
              <a:tr h="37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сего 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-2009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ВГ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У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людей выведенных и эвакуированных при  авариях и аварийных ситуациях подразделениями ГВГСС и членами ВГК, всего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17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9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9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реднее количество людей, которые подвергаются опасности   при аварии или аварийн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0" y="188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ичество людей выведенных при авариях и аварий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туациях с аварийных и угрожаемых участков (выработок) на всех обслуживаемых предприят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9:16:01Z</dcterms:created>
  <dc:creator>1</dc:creator>
  <dc:description/>
  <dc:language>en-US</dc:language>
  <cp:lastModifiedBy>1</cp:lastModifiedBy>
  <dcterms:modified xsi:type="dcterms:W3CDTF">2011-12-16T10:38:14Z</dcterms:modified>
  <cp:revision>30</cp:revision>
  <dc:subject/>
  <dc:title> Отчет по теме Д-309 «Теоретичне обґрунтування та експериментальне дослідження методів та технічних засобів порятунку гірників, що застигнуті пожежею в тупикових виробках шахт»</dc:title>
</cp:coreProperties>
</file>