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775-9E5D-4B1A-8042-799F8782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73A-E3AA-4F1E-8EEF-6E99346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856-3B2E-4B6D-A08C-554920F1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D5F-3543-48F3-BF0A-5F950C5D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523-EFAC-4455-ABF7-5286F850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917-E5C9-4D65-B033-77785D2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F68-F87B-4BB4-AE66-6DE4BCF8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FBD-8C68-413E-8D61-02AF6CCE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F4D-C7E4-4DF6-941C-C78C0B18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0BE-AA23-44F6-9642-06E93673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97E-DE80-4DCB-81C6-F77B3FA3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F6E-91C0-410D-B564-01A6E80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925A-FF81-45C3-9480-941DFBD55829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9F8-AD5F-40D1-A2DD-4BAB87387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629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ЕЛЕКТРОННІ РЕСУРСИ НТБ ДОННТУ: ПРОБЛЕМИ СТВОРЕННЯ І ВИКОРИСТАНН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349000"/>
            <a:ext cx="661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ропаєв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кторія Яків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цент, к.т.н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ординатор проек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9" descr="donntu.jpg"/>
          <p:cNvPicPr/>
          <p:nvPr/>
        </p:nvPicPr>
        <p:blipFill>
          <a:blip r:embed="rId1"/>
          <a:stretch/>
        </p:blipFill>
        <p:spPr>
          <a:xfrm>
            <a:off x="285840" y="4859280"/>
            <a:ext cx="84294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чаткова стат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47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 – самоархівування, решта - бібліотекар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5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6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37B-4D8A-4105-8E97-9933299270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FFBEE-5257-44FE-AEC1-7736521CD2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E67-7CE7-4F02-84A4-EFA4EE6009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9FDA8-E65A-4021-ABDB-D17DF3094F1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облеми і перспек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охочення авторів до самоархівації – 3.02.2011 – семінар для науковців ДонН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твердження положення про ЕА на Вченій раді ДонНТУ (ради факультетів розглянули проект полож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нтроль авторства та якості – шлях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бмежене коло ел.адрес для депозиторі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еханізм рецензуванн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DF0-672C-4F00-92B5-F04DE740F0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B5787-6856-41E0-82BA-821F90424F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2.Забезпечення доступу до зовнішніх ЕР: досягнення і пробле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жерела фінансування доступу до ЕР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ласним кош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вдяки участі в проекті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ібліо - УРАН (за сприяння МОН + власні кошти) – 2010 р. тіль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часть у міжнародних проектах – пункт доступу до інформаційних ресурсів Міжнародного франкофонного аген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B92-4779-418A-AE09-5B0C6F3EB5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08EA4-921F-4A9D-B27A-A43CA4BF363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ласним коштом (2010 р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еферативні журнали ВІНІТІ (значно скорочений перелі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EBS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Електронна бібліотека підручників ЦУ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ІГА:ЗАКОН, Зодчий, ЛЕОНОРМ-ІНФОРМ – 1 робоче міс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1B7-6F6A-4693-BBA4-9ACDA34443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BBB9A-B289-4275-B30D-3A976D7574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еваги участі в проекті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ibUk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тодична і консалтингова підтрим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ередплата Е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Pro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HIN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Д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начна кількість тестових доступ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формаційна підтрим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B1D-34F2-4A3A-9A06-FD85CF2FFC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DF9C4-5939-4A5E-8549-257902BCD7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наліз використання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sertations &amp; Thes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ProQuest у 2010 році 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413000"/>
          <a:ext cx="8229600" cy="4833720"/>
        </p:xfrm>
        <a:graphic>
          <a:graphicData uri="http://schemas.openxmlformats.org/drawingml/2006/table">
            <a:tbl>
              <a:tblPr/>
              <a:tblGrid>
                <a:gridCol w="1666800"/>
                <a:gridCol w="1295640"/>
                <a:gridCol w="2238120"/>
                <a:gridCol w="1730520"/>
                <a:gridCol w="129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і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шу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цитувань/ рефера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вних текс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і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е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п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0 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A0F-35AF-41AE-B183-0C963DC58D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A4701-A382-4BBE-934F-629D3FA70D1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наліз використання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BSCO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у 2010 році 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413000"/>
          <a:ext cx="8229600" cy="4833720"/>
        </p:xfrm>
        <a:graphic>
          <a:graphicData uri="http://schemas.openxmlformats.org/drawingml/2006/table">
            <a:tbl>
              <a:tblPr/>
              <a:tblGrid>
                <a:gridCol w="1666800"/>
                <a:gridCol w="1295640"/>
                <a:gridCol w="2238120"/>
                <a:gridCol w="1730520"/>
                <a:gridCol w="129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і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шу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цитувань/ рефера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вних текс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і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е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п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0 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067-907A-4CE7-B82D-1617431E8F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1A96B-4EA9-4323-B5EA-54136F83E9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едплата на 2011 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Ж ВІНІТІ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ІГА:ЗАКОН, Зодчий, ЛЕОНОРМ-ІНФОРМ – 3 робочих місц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ВЧЗ дисертацій РГ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Quest ?!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NARY ?!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141-7866-4629-9674-1F5E2CB12F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CA277-BED4-4C50-A6D2-B1B81C979B8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сурси відкритого доступ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сурс місяця ві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ID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подяка Ірині Несміянові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нгломовні ресурси – журнали, книги (завжди актуальна інформація від Тетяни Ярошенк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позитарії інституцій України (портал проек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сійськомовні ресурси для освіти і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E38-2B98-42E1-84A2-21127C653F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66921-BC34-46CE-85B5-95FA6C7942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лан доповід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ення колекцій ЕР власної генерації: історія і перспекти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безпечення доступу до зовнішніх ЕР: досягнення і пробле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блеми управління електронними ресурс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4EA-DBAF-4C7C-9B69-3E6365FF5E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B26ED-E446-4030-A489-5088B6C0506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3. Проблеми управління електронними ресурс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вчання користувачів та бібліотека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аталогізація ЕР 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цікава інформація про дослідження в бібліотеках США у блозі Тетяни Ярошенк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вний ба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є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Контроль за актуальніст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поділ ресурсів (електронних і традиційних) між бібліотекар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BF0-8CF4-4E1D-AECC-3C41F6AF80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6DB3-A79D-45E7-9528-D3975D008F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вчання  науковців та студентів навичкам роботи з 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робка програми та включення курсу “Електронні бібліотеки” в програму підвищення кваліфікації співробітник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ведення семінарів та лекцій для студентів, аспірантів та науковц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формаційні доповіді на наукових конференціях та вчених рад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силання презентацій п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розміщення в ЕА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6E8-9FF2-4E79-92AB-AF4B15D524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08376-D7EE-4CC6-8BE3-AD877BD86E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opayeva@donntu.edu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1. Створення колекцій ЕР власної генерації: історія і перспекти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лектронний каталог  - більше 220 тис. запис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1991 р.  початок створення в локальній АБІС «МАРК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2001 р. впровадження ОРАС в «UNILIB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2010 р. перехід на «МАРК-SQL» - сучасну АБІС нового поколін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BA2-0AA4-4B39-91A8-EDB60110DD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3F8F7-0EB8-40F0-A657-D30F76F78A9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6EE-6B06-49BC-A0BE-E007299984A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B5D63-64B3-4FC0-9363-8C927CD6695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088-B97A-4A45-ACC3-B2159105B26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5F411-7914-4D18-B728-641ED204AC9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творення колекцій повнотекстових електронних документ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кумулювання повних текстів наукових та методичних праць співробітників ДонНТУ з доступом через електронний ката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еб-сторінки кафедр і факультетів, тематичні Інтернет-портали (“Горное дело”, Портал магістрі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творення репозитарію відкритого доступ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CB0-2376-4DF3-A279-FF3D8884AF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98376-085A-4CD6-8493-AD55C10941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9B5-DB88-4F36-A6BB-F87C123750B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D072A-B852-4379-8D82-57CCA6B1D9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лектронний архів ДонНТУ –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archive DonN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a.donntu.edu.u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нди – структурні підрозділи, “Наукові видання”, “Наукові праці”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фонди, колекції – за рішенням факультету (інститут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F6E-090A-44AE-939D-FC9F1874A6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766E1-292D-4683-8867-12AADEE218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AE3-3CBF-4129-9E70-E94B2B57688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6B670-3F58-4841-82A5-BEAFAF5AC8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7:46:00Z</dcterms:created>
  <dc:creator>Customer</dc:creator>
  <dc:description/>
  <dc:language>en-US</dc:language>
  <cp:lastModifiedBy>vita</cp:lastModifiedBy>
  <dcterms:modified xsi:type="dcterms:W3CDTF">2011-01-25T09:00:00Z</dcterms:modified>
  <cp:revision>525</cp:revision>
  <dc:subject/>
  <dc:title>Слайд 1</dc:title>
</cp:coreProperties>
</file>