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F75-13DE-4AA5-AFF3-131DA5B7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371-B65A-4DB9-973E-ACC7632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BEB-D895-48A7-9205-9A303E7A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B1A-797F-4FBB-94B8-A7A760B6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15C-BBEF-4254-B36E-873130C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B1E-96F6-438E-B034-E2A5517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1AD-88D2-4B5B-8A22-A3DD5FFF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A2F-9705-4283-AF56-16C34176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236-0D28-4890-94FE-3CE28CC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9DC-C9B3-449B-A471-192EF33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0AD-D091-408A-888D-21180C3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43D-1B4D-4AE8-B937-E24D376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457-15EC-4B0D-A109-348F8C2AF205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FD1-C851-4026-8C43-790EC492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ЛЕКТРОННІ РЕСУРСИ НТБ ДОННТУ: ПРОБЛЕМИ СТВОРЕННЯ І ВИКОРИСТАНН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661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ропаєв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кторія Які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цент, к.т.н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ординатор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9" descr="donntu.jpg"/>
          <p:cNvPicPr/>
          <p:nvPr/>
        </p:nvPicPr>
        <p:blipFill>
          <a:blip r:embed="rId1"/>
          <a:stretch/>
        </p:blipFill>
        <p:spPr>
          <a:xfrm>
            <a:off x="285840" y="4859280"/>
            <a:ext cx="8429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чаткова стат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47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 – самоархівування, решта - бібліотекар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5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6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ED0-E7C8-4591-B25D-D3A1CDEFDD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E78FA-03AC-4C3A-B6C4-78521118BF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B3F-AFB1-48C0-8736-1C6052EB1A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0CCA-F540-4C97-B710-6534B5139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блеми і перспек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охочення авторів до самоархівації – 3.02.2011 – семінар для науковців ДонН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вердження положення про ЕА на Вченій раді ДонНТУ (ради факультетів розглянули проект поло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нтроль авторства та якості – шлях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бмежене коло ел.адрес для депозито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еханізм рецензува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FE3-4439-427F-9029-67B6F08827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C31B3-8D35-4C1A-B016-1955D750F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2.Забезпечення доступу до зовнішніх ЕР: досягнення і пробле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жерела фінансування доступу до ЕР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ласним кош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вдяки участі в проекті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бліо - УРАН (за сприяння МОН + власні кошти) – 2010 р. тіль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часть у міжнародних проектах – пункт доступу до інформаційних ресурсів Міжнародного франкофонного аген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B86-A51D-40B9-ABC7-5E0C40B0BF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8566-3B35-487C-8489-CFE0D4D99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ласним коштом (2010 р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еферативні журнали ВІНІТІ (значно скорочений перелі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EBS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лектронна бібліотека підручників ЦУ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ІГА:ЗАКОН, Зодчий, ЛЕОНОРМ-ІНФОРМ – 1 робоче міс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489-B429-40DE-9639-2BBA918275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8594E-CC81-447A-BB34-F4D9EAE86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ваги участі в проекті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bUk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ична і консалтингова підтрим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ередплата Е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Pro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HIN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Д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чна кількість тестових доступ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формаційна підтрим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389-04F5-4C3F-A5F8-67878F0321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80A66-BC59-494C-84B0-BA229C749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аліз використання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sertations &amp; Thes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ProQuest у 2010 році 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413000"/>
          <a:ext cx="8229600" cy="4833720"/>
        </p:xfrm>
        <a:graphic>
          <a:graphicData uri="http://schemas.openxmlformats.org/drawingml/2006/table">
            <a:tbl>
              <a:tblPr/>
              <a:tblGrid>
                <a:gridCol w="1666800"/>
                <a:gridCol w="1295640"/>
                <a:gridCol w="2238120"/>
                <a:gridCol w="1730520"/>
                <a:gridCol w="129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і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шу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цитувань/ рефер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вних тек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і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е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0 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5B-DF97-47A4-8F85-A6FA5E4479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6D2E9-FE2D-4B76-B13C-BDC83EEDFD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аліз використання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BSCO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у 2010 році 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413000"/>
          <a:ext cx="8229600" cy="4833720"/>
        </p:xfrm>
        <a:graphic>
          <a:graphicData uri="http://schemas.openxmlformats.org/drawingml/2006/table">
            <a:tbl>
              <a:tblPr/>
              <a:tblGrid>
                <a:gridCol w="1666800"/>
                <a:gridCol w="1295640"/>
                <a:gridCol w="2238120"/>
                <a:gridCol w="1730520"/>
                <a:gridCol w="129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і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шу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цитувань/ рефер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овних тек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і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е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п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0 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32F-0F28-483E-AC75-F8E7D9B374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79F69-48D9-4626-8AED-BD85968B3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едплата на 2011 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Ж ВІНІТ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ІГА:ЗАКОН, Зодчий, ЛЕОНОРМ-ІНФОРМ – 3 робочих місц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ЧЗ дисертацій РГ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Quest ?!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NARY ?!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CBD-D5A6-4114-BE51-7D38B1F3F8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9ACFA-D57B-4D30-9283-DC63B478F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сурси відкритого доступ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сурс місяця ві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ID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подяка Ірині Несміянові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нгломовні ресурси – журнали, книги (завжди актуальна інформація від Тетяни Ярошен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епозитарії інституцій України (портал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сійськомовні ресурси для освіти і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526-6FEA-4E68-8B1D-D52F24F3AE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C0D0A-AD72-4FE7-8747-06D997F3A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лан допові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ення колекцій ЕР власної генерації: історія і перспекти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безпечення доступу до зовнішніх ЕР: досягнення і пробле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блеми управління електронними ресурс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E89-90FE-41F7-B91D-40EAB7B800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58B84-F5A8-4EAA-B307-3F72CD97C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3. Проблеми управління електронними ресурс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вчання користувачів та бібліотека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аталогізація ЕР 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цікава інформація про дослідження в бібліотеках США у блозі Тетяни Ярошен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вний ба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є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Контроль за актуальніст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поділ ресурсів (електронних і традиційних) між бібліотекар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4B3-07D9-4B38-BFDF-BFE2A7EC2B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12797-4570-48BC-9A53-0670CA8FA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вчання  науковців та студентів навичкам роботи з 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робка програми та включення курсу “Електронні бібліотеки” в програму підвищення кваліфікації співробіт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ведення семінарів та лекцій для студентів, аспірантів та науковц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формаційні доповіді на наукових конференціях та вчених ра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силання презентацій п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розміщення в ЕА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FE2-52B8-4536-ACB4-F730B1D501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98B27-834D-44FB-8B89-BBA22EC2F9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opayeva@donntu.edu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1. Створення колекцій ЕР власної генерації: історія і перспекти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лектронний каталог  - більше 220 тис. запис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1991 р.  початок створення в локальній АБІС «МАРК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2001 р. впровадження ОРАС в «UNILIB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2010 р. перехід на «МАРК-SQL» - сучасну АБІС нового поколі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1F6-E8A8-459A-94BD-A9C8F30EED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19CC0-83FE-48E0-8FB5-2F8FF41685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E00-B332-4C47-A0FC-C22F3D140B3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BBC67-15C4-4D68-AD34-13F9A76041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8DF-71BE-4CCD-A716-17625FAB1A0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1E8FE-458E-4AC2-AF03-2321D7DC9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творення колекцій повнотекстових електронних документ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кумулювання повних текстів наукових та методичних праць співробітників ДонНТУ з доступом через електронний ката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б-сторінки кафедр і факультетів, тематичні Інтернет-портали (“Горное дело”, Портал магістрі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ворення репозитарію відкритого доступ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662-36A9-4E86-AD35-AB362851E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C10B9-9688-488F-A183-FDDA8B425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5CD-B05E-4F3B-A89E-720E414342B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35C0B-1BDA-4A2C-A254-3F8AF33D9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лектронний архів ДонНТУ –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archive Don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a.donntu.edu.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нди – структурні підрозділи, “Наукові видання”, “Наукові праці”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фонди, колекції – за рішенням факультету (інститут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830-F5B0-4AC6-9EA0-B9C1B7AF32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4E93D-F442-4EEE-AC7B-8B61DE9C3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Воропаєва В.Я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6C1-EDB1-4984-8897-E0AC719B88E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CEF3F-1786-44FC-ABA8-63B2249EFD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7:46:00Z</dcterms:created>
  <dc:creator>Customer</dc:creator>
  <dc:description/>
  <dc:language>en-US</dc:language>
  <cp:lastModifiedBy>vita</cp:lastModifiedBy>
  <dcterms:modified xsi:type="dcterms:W3CDTF">2011-01-25T09:00:00Z</dcterms:modified>
  <cp:revision>525</cp:revision>
  <dc:subject/>
  <dc:title>Слайд 1</dc:title>
</cp:coreProperties>
</file>