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888-350D-4D04-B637-9B8364DA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B79-AB12-4FCC-B95F-EA7879CA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8DB-D084-4413-820A-05BA7B12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1FB-595A-4E54-8F25-501D257E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CFCC-CC38-449B-BAF5-324B5F86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D810-C589-449F-851B-43A2F158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E9CE-75F4-4FD5-A01A-E4F0C554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AF5C-BD31-4178-AED3-F438B419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A120-4AD2-4FD4-83B5-BDA7684C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6E6E-EAEA-456D-A9B9-480EB61F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BDBF-99E5-4379-8367-BCC63EC1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B71-ACBE-4CE1-9DE4-8FE6EF9B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707F-2327-4C44-8973-F0149D8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84D3-165E-42EA-A121-16BA9ECD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B1E8-B67E-420B-9847-86353DF9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F02C-3E84-4C64-A8A7-BF68C033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AF85-49EB-4114-B080-085356E8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98AE-9527-4EE2-9F8F-09290144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F503-A641-47AE-832D-C6BF967F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F6FA-00B4-4EBF-A478-43F0B3F9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3736-309C-4C60-94B2-70DFAD03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3E46-DABA-474A-BC78-2EE54A6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912-CEFC-4E1A-AFC6-FD15E27E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3C1C-5027-4775-BE41-B30EF3B4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4B61-B2EE-4B8D-86F5-6564A7CD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608F6-D438-4225-9525-988E45B6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BC3F-DF12-431E-B723-57C3F743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E615-EE4A-43B8-AAFB-A9D2360F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5BCC-A101-451B-A6D2-8E3A2217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A76A-5FD1-4720-8338-79093E9C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855-3D3A-4851-AB7F-DCBCF0C3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425-A19E-4E04-B62B-AD176D1F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346-2760-4403-8784-B4CBCDC2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995-15A3-4612-AA9E-340A2C58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BA1-4272-4DBD-B1BD-188B6832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2EE-8163-4D7E-AA00-49A80D0E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9C7C-F2D4-4AFB-BB77-2AB4708554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E77A-3E72-4794-91B0-44A73CF65A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5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5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6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6A90-E9F3-4109-A275-F262478279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3tGMZKWwcB.vqJzbkF;_ylu=X3oDMTBqZjdtb25uBHBvcwMyNgRzZWMDc3IEdnRpZAM-/SIG=1jmr9nri6/EXP=1254582893/**http%3A//images.search.yahoo.com/images/view%3Fback=http%253A%252F%252Fimages.search.yahoo.com%252Fsearch%252Fimages%253Fp%253Dukraine%252Bfields%2526b%253D19%2526ni%253D18%2526ei%253Dutf-8%2526pstart%253D1%2526fr%253Dyfp-t-701%2526fr2%253Dsg-gac%26w=500%26h=460%26imgurl=static.flickr.com%252F3068%252F2545650273_6c1b07d4c3.jpg%26rurl=http%253A%252F%252Fwww.flickr.com%252Fphotos%252Fjup3nep%252F2545650273%252F%26size=203k%26name=Yellow%2Bribbon%26p=ukraine%2Bfields%26oid=0fd097a5a4928040%26fr2=sg-gac%26fusr=Katarina%2B235...%26no=26%26tt=437%26b=19%26ni=18%26sigr=11g2s0dhj%26sigi=11ghkh4an%26sigb=13i2dqjt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oaj.org/" TargetMode="External"/><Relationship Id="rId2" Type="http://schemas.openxmlformats.org/officeDocument/2006/relationships/hyperlink" Target="http://www.opendoar.org/" TargetMode="External"/><Relationship Id="rId3" Type="http://schemas.openxmlformats.org/officeDocument/2006/relationships/hyperlink" Target="http://roar.eprints.org/" TargetMode="External"/><Relationship Id="rId4" Type="http://schemas.openxmlformats.org/officeDocument/2006/relationships/hyperlink" Target="http://www.base-search.net/" TargetMode="External"/><Relationship Id="rId5" Type="http://schemas.openxmlformats.org/officeDocument/2006/relationships/hyperlink" Target="http://kmalibrary.blogspot.com/p/blog-page_23.html" TargetMode="External"/><Relationship Id="rId6" Type="http://schemas.openxmlformats.org/officeDocument/2006/relationships/hyperlink" Target="http://kmalibrary.blogspot.com/p/blog-page_23.html" TargetMode="External"/><Relationship Id="rId7" Type="http://schemas.openxmlformats.org/officeDocument/2006/relationships/hyperlink" Target="http://kmalibrary.blogspot.com/p/blog-page_23.html" TargetMode="External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WWGMZKNDEAVsOJzbkF;_ylu=X3oDMTBqaXB1b3BqBHBvcwM2MQRzZWMDc3IEdnRpZAM-/SIG=1ka6eb2rm/EXP=1254582806/**http%3A//images.search.yahoo.com/images/view%3Fback=http%253A%252F%252Fimages.search.yahoo.com%252Fsearch%252Fimages%253Fp%253Dukraine%252Bflag%2526b%253D61%2526ni%253D20%2526ei%253Dutf-8%2526pstart%253D1%2526fr%253Dyfp-t-701%2526fr2%253Dsg-gac%26w=500%26h=375%26imgurl=static.flickr.com%252F37%252F102167411_c5bc322b28.jpg%26rurl=http%253A%252F%252Fwww.flickr.com%252Fphotos%252Firish-guy%252F102167411%252F%26size=69k%26name=Ukraine%2BFlag%2BLvi...%26p=ukraine%2Bflag%26oid=6dc43c239dbe7c28%26fr2=sg-gac%26fusr=Irish%2BGuy%2526%252339%253Bs%2B...%26no=61%26tt=9754%26b=61%26ni=20%26sigr=11h83bmju%26sigi=11dt2i05a%26sigb=13gep3p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инар 3.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паева Виктория Яковл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ор проек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bUkr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он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Электронный архив ДонНТУ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6237360"/>
            <a:ext cx="1512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81200" y="333000"/>
            <a:ext cx="83628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руктура и политики электронного архива ДонНТУ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– E-archive DonNTU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рес http://ea.donntu.edu.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нер на сайте НТБ ДонНТУ http://library.donntu.edu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архива соответствует организационной структуре ДонНТУ (+фонды для научных труд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ное обеспечение с открытым кодом (бесплатное)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PAC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зработка М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оступ к материалам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-archive DonNTU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– открытый для все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1989000"/>
            <a:ext cx="3529080" cy="33847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3708360" y="2349360"/>
            <a:ext cx="504036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оиск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о ключевым слова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по дате выпус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о автора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о заголовка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о тема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Возможности зарегистрированного пользовател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ть новости на эл.поч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щать материалы в коллекциях, на которые получены права (материалы могут размещаться только в коллекциях, которые являются частью фондов или подфон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ять материалы (если они размещены лично), вносить корр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2843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пользованные материал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Ирины Кучмы и Татьяны Ярошенко «Проекты Открытого Доступа в Украине и мире: новые проекты, тенденции, перспективы» http://www.ekmair.ukma.kiev.ua/handle/123456789/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92360" y="4869000"/>
            <a:ext cx="2808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дминистрирование фондов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-archive DonN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министратор фонда – ответственный по структурному подразде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ет детальную структуру своего фонда – подфонды и колл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еделяет права доступа к своему фо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дактирует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аляет неверные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ринципы размещения материалов в архив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должна носить научный или учебный хара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тьи, выступления на конференц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четы по Н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ераты (тексты) диссерта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тод. указания или учебные пособ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ы созданы сотрудниками ДонНТУ (можно в соавторстве с други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уденческие работы размещают руков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Особливості занесення даних до архів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ринципы размещения материалов в архиве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размещать уже опубликованные материалы (если издательство не возражает) – постпринты или препри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занесении материала важно корректно задать «метаданные» - по ним осуществляется поис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, наз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ючевы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ер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лан семина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я, принципы и основные пути развития инициативы открытого доступа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I - open access initi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и политики электронного архива ДонНТ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E-archive Don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 к материала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archive Don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щение работ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archive Don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инистрирование фонд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archive Don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ринципы размещения материалов в архиве (заверш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ы файлов – любые (текст, графика, презентация, аудио, видео, расчетные табли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ы файлов – лучш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 мож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, rtf, ppt, xls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m, 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jpeg, jp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iff, t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u, s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peg, m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ава авто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вторський договір про передачу невиключних прав на використання т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ВТОР передає УНІВЕРСИТЕТУ на безоплатній основі невиключні права на використання твору на весь строк дії авторського права починаючи з моменту розміщення твор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imes New Roman"/>
              </a:rPr>
              <a:t>Открытый доступ: Почему</a:t>
            </a:r>
            <a:r>
              <a:rPr b="0" lang="en-US" sz="4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ый доступ являет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кономически выгод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е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вероятно широкие возмож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иска и использ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обходим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ы авторов получаю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громную новую аудитор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их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оль и масштаб значительно возраст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апештская Инициатива «Открытый Доступ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762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Менеджер 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-archive DonNTU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– Ткаченко Наталья  Александровна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nsot@library.dgtu.donetsk.u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паева Виктория Яковл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opayeva@donntu.edu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AI - open access initiative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.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тория, принципы, пути развит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открытым доступом к литературе [в первую очередь отрецензированным  журнальным статьям] мы имеем вви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платный доступ через публичный интер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озволяющий читателям читать, загружать, копировать, распространять и печатать, искать и делать ссылки, индексировать, передавать данные или использовать с другой легальной целью, минуя финансовые и технические барьеры, лишь сохраняя целостность роботы и ссылаясь на автора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удапештская инициатива «Открытый Досту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003399"/>
                </a:solidFill>
                <a:latin typeface="Times New Roman"/>
              </a:rPr>
              <a:t>Два пути Открытого доступ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3192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й – журналы 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леный – репозитарии (архивы) 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итуц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276640"/>
            <a:ext cx="33130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то такое репозитарий (архив) ОД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овая коллекция научных работ, созданная  путем «самоархивир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ьные статьи могут помещаться перед публикацией (препринт) или после (постприн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позитарии содержат метаданнные каждого материала (название, автора и пр.) в формате Open Archives Initiative Protocol for Metadata Harvesting (OAIPM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происходит– через Google или другие специализированные системы – OpenDOAR, ROAR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ткрытый доступ в цифра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ая 5-я статья, напечатанная в 2009 г. – в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513 журналов 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ректории журналов открытого доступа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doaj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66 репозитариев ОД 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ии репозитариев открытого доступа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opendo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5 репозитариев 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естре репозитариев открытого доступа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roar.eprint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 518 361 документов в 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BASE Search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base-search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(систематизированный) ресурсов ОД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kmalibrary.blogspot.com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/p/blog-page_2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ление - 46 миллионов ч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4 вузов, 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51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иверс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ие университ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ИИ НАН Укра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,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с. докторов и кандидатов наук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00+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учных журналов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0 0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убликаций ежег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76880" y="334800"/>
            <a:ext cx="1495440" cy="1028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476360" y="476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раин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07920" y="277560"/>
            <a:ext cx="687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imes New Roman"/>
              </a:rPr>
              <a:t>Украина – поддержка 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80840" y="1628640"/>
            <a:ext cx="81118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00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Укра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Про основні засади розвитку інформаційного суспільства в Україні н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2007-2015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рр.”:  …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есплатный интернет доступ к ресурсам, созданным за счет госбюджета Украины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2008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„Про затвердження Порядку передавання електронних копій друкованих наукових фахових видань на зберігання до Національної бібліотеки імені В.І.Вернадського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00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львийская Хар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009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евастопольский мандат университетов Укра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Go to fullsize image"/>
          <p:cNvPicPr/>
          <p:nvPr/>
        </p:nvPicPr>
        <p:blipFill>
          <a:blip r:embed="rId1"/>
          <a:stretch/>
        </p:blipFill>
        <p:spPr>
          <a:xfrm>
            <a:off x="0" y="0"/>
            <a:ext cx="13809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6:09:57Z</dcterms:created>
  <dc:creator>smb</dc:creator>
  <dc:description/>
  <dc:language>en-US</dc:language>
  <cp:lastModifiedBy>Admin</cp:lastModifiedBy>
  <dcterms:modified xsi:type="dcterms:W3CDTF">2011-02-02T18:32:08Z</dcterms:modified>
  <cp:revision>35</cp:revision>
  <dc:subject/>
  <dc:title>Слайд 1</dc:title>
</cp:coreProperties>
</file>