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.png" ContentType="image/png"/>
  <Override PartName="/ppt/media/image4.jpeg" ContentType="image/jpeg"/>
  <Override PartName="/ppt/media/image25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0836-AC5A-44F0-AB74-E8AB7B6E1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2402-F8D2-4549-AA14-CF4092E0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448B-5B1C-4BFA-9DCA-69C3BEAC3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903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087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903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087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3CE9-6A28-4E52-A99F-2F62307E5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5A93-F8B2-46BD-B480-45245EC91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D85A-87EE-47ED-A1FD-C8D59E14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EAA1-AACD-4E3A-89B0-E063D192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8316-45D5-4300-AF6D-BDAD07CE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578D-762A-4974-B59D-8E727A69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057040" y="1143000"/>
            <a:ext cx="662940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F1AF-09C6-413F-A441-B90BA714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D613-6929-4A54-AA8E-373E6041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A90A-B052-46D9-89E8-865E1653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C738-B51D-4D27-B6F8-B9B06E45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1607-6623-4469-9D2A-C5800F31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51B0-E6B2-4313-AEC7-901FCEE6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7D1D-41D5-4AE6-8337-B51F0971D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6903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087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137160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6903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087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6324-7712-4DE7-BB44-D59EC339B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07FDA-9452-400A-8BCE-A60DFF4D7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2BD95-F40E-4026-AD6B-65CD2DB8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77305-885B-4EA6-B7E2-92D8A209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FD000-648C-4047-82F9-BD0367D1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CEFA7-74FD-4CE9-B6AF-0008ED28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AD99-47C1-49F3-98AF-7424A66B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057040" y="1143000"/>
            <a:ext cx="662940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BCB8B-8C64-4A53-B203-4EBEFB77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44A4B-BBFA-410F-98FA-BD76648A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06C97-F48F-4BF7-BCD5-1714FC7D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C8A25-E82B-4DF5-B916-C484EEBA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2E4A7-FF57-4A68-9580-37B93647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BBC5C-44DA-4141-A8BE-576709515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6903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087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37160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6903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087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9C4AF-280A-407B-BEEE-64AEB872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A76F-9AEF-47B6-BFF7-81809A4C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825E-4638-42CF-8DC8-C8BA3AED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057040" y="1143000"/>
            <a:ext cx="662940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BF26-847E-439E-AACA-624A8242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3F46-4291-4547-BF4B-E3C8DB37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775C-BD2E-4F16-8FC3-A048E665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F2D5-73FF-4283-8A3D-36437F47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18B2-8EF3-46C3-800D-99E6310BFD2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CEFC-CD2C-4C2E-BE4B-4C8F39A077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54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56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60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DC6A-2188-4125-84D3-E0FD2F5537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6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3tGMZKWwcB.vqJzbkF;_ylu=X3oDMTBqZjdtb25uBHBvcwMyNgRzZWMDc3IEdnRpZAM-/SIG=1jmr9nri6/EXP=1254582893/**http%3A//images.search.yahoo.com/images/view%3Fback=http%253A%252F%252Fimages.search.yahoo.com%252Fsearch%252Fimages%253Fp%253Dukraine%252Bfields%2526b%253D19%2526ni%253D18%2526ei%253Dutf-8%2526pstart%253D1%2526fr%253Dyfp-t-701%2526fr2%253Dsg-gac%26w=500%26h=460%26imgurl=static.flickr.com%252F3068%252F2545650273_6c1b07d4c3.jpg%26rurl=http%253A%252F%252Fwww.flickr.com%252Fphotos%252Fjup3nep%252F2545650273%252F%26size=203k%26name=Yellow%2Bribbon%26p=ukraine%2Bfields%26oid=0fd097a5a4928040%26fr2=sg-gac%26fusr=Katarina%2B235...%26no=26%26tt=437%26b=19%26ni=18%26sigr=11g2s0dhj%26sigi=11ghkh4an%26sigb=13i2dqjt0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oaj.org/" TargetMode="External"/><Relationship Id="rId2" Type="http://schemas.openxmlformats.org/officeDocument/2006/relationships/hyperlink" Target="http://www.opendoar.org/" TargetMode="External"/><Relationship Id="rId3" Type="http://schemas.openxmlformats.org/officeDocument/2006/relationships/hyperlink" Target="http://roar.eprints.org/" TargetMode="External"/><Relationship Id="rId4" Type="http://schemas.openxmlformats.org/officeDocument/2006/relationships/hyperlink" Target="http://www.base-search.net/" TargetMode="External"/><Relationship Id="rId5" Type="http://schemas.openxmlformats.org/officeDocument/2006/relationships/hyperlink" Target="http://kmalibrary.blogspot.com/p/blog-page_23.html" TargetMode="External"/><Relationship Id="rId6" Type="http://schemas.openxmlformats.org/officeDocument/2006/relationships/hyperlink" Target="http://kmalibrary.blogspot.com/p/blog-page_23.html" TargetMode="External"/><Relationship Id="rId7" Type="http://schemas.openxmlformats.org/officeDocument/2006/relationships/hyperlink" Target="http://kmalibrary.blogspot.com/p/blog-page_23.html" TargetMode="External"/><Relationship Id="rId8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efWWGMZKNDEAVsOJzbkF;_ylu=X3oDMTBqaXB1b3BqBHBvcwM2MQRzZWMDc3IEdnRpZAM-/SIG=1ka6eb2rm/EXP=1254582806/**http%3A//images.search.yahoo.com/images/view%3Fback=http%253A%252F%252Fimages.search.yahoo.com%252Fsearch%252Fimages%253Fp%253Dukraine%252Bflag%2526b%253D61%2526ni%253D20%2526ei%253Dutf-8%2526pstart%253D1%2526fr%253Dyfp-t-701%2526fr2%253Dsg-gac%26w=500%26h=375%26imgurl=static.flickr.com%252F37%252F102167411_c5bc322b28.jpg%26rurl=http%253A%252F%252Fwww.flickr.com%252Fphotos%252Firish-guy%252F102167411%252F%26size=69k%26name=Ukraine%2BFlag%2BLvi...%26p=ukraine%2Bflag%26oid=6dc43c239dbe7c28%26fr2=sg-gac%26fusr=Irish%2BGuy%2526%252339%253Bs%2B...%26no=61%26tt=9754%26b=61%26ni=20%26sigr=11h83bmju%26sigi=11dt2i05a%26sigb=13gep3pd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инар 3.02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ропаева Виктория Яковле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ординатор проект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bUkr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онН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Электронный архив ДонНТУ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50920" y="6237360"/>
            <a:ext cx="15127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81200" y="333000"/>
            <a:ext cx="83628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труктура и политики электронного архива ДонНТУ 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– E-archive DonNTU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820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дрес http://ea.donntu.edu.u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нер на сайте НТБ ДонНТУ http://library.donntu.edu.u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уктура архива соответствует организационной структуре ДонНТУ (+фонды для научных труд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ное обеспечение с открытым кодом (бесплатное)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SPAC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разработка М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Доступ к материалам 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-archive DonNTU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– открытый для всех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0" y="1989000"/>
            <a:ext cx="3529080" cy="338472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3708360" y="2349360"/>
            <a:ext cx="504036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Поиск: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по ключевым слова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 по дате выпуска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по автора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по заголовка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по тема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Возможности зарегистрированного пользователя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08000" y="1599840"/>
            <a:ext cx="497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ать новости на эл.поч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щать материалы в коллекциях, на которые получены права (материалы могут размещаться только в коллекциях, которые являются частью фондов или подфонд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алять материалы (если они размещены лично), вносить корр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28432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Использованные материал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ентация Ирины Кучмы и Татьяны Ярошенко «Проекты Открытого Доступа в Украине и мире: новые проекты, тенденции, перспективы» http://www.ekmair.ukma.kiev.ua/handle/123456789/8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492360" y="4869000"/>
            <a:ext cx="28083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дминистрирование фондов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-archive DonN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дминистратор фонда – ответственный по структурному подразде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здает детальную структуру своего фонда – подфонды и колле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пределяет права доступа к своему фон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дактирует да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даляет неверные да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Принципы размещения материалов в архив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должна носить научный или учебный харак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атьи, выступления на конференция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четы по НИ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фераты (тексты) диссертац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тод. указания или учебные пособ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риалы созданы сотрудниками ДонНТУ (можно в соавторстве с други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уденческие работы размещают руководи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Особливості занесення даних до архіву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4360" y="277560"/>
            <a:ext cx="82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Принципы размещения материалов в архиве (продолжение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но размещать уже опубликованные материалы (если издательство не возражает) – постпринты или препри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занесении материала важно корректно задать «метаданные» - по ним осуществляется поис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втор, назва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лючевые сло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фера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лан семина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рия, принципы и основные пути развития инициативы открытого доступа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AI - open access initia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уктура и политики электронного архива ДонНТ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E-archive DonN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уп к материала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archive DonN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щение работ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archive DonN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дминистрирование фондо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archive DonN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4000" y="2775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Принципы размещения материалов в архиве (завершение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пы файлов – любые (текст, графика, презентация, аудио, видео, расчетные таблиц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ты файлов – лучш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, можн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, rtf, ppt, xls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m, htm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jpeg, jp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g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iff, t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u, s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mpeg, mp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ава авто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вторський договір про передачу невиключних прав на використання тво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ВТОР передає УНІВЕРСИТЕТУ на безоплатній основі невиключні права на використання твору на весь строк дії авторського права починаючи з моменту розміщення твор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8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3300"/>
                </a:solidFill>
                <a:latin typeface="Times New Roman"/>
              </a:rPr>
              <a:t>Открытый доступ: Почему</a:t>
            </a:r>
            <a:r>
              <a:rPr b="0" lang="en-US" sz="4200" spc="-1" strike="noStrike">
                <a:solidFill>
                  <a:srgbClr val="ff3300"/>
                </a:solidFill>
                <a:latin typeface="Times New Roman"/>
              </a:rPr>
              <a:t>?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770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тый доступ является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кономически выгод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ет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вероятно широкие возмож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ля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иска и использова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еобходимой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ы авторов получают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громную новую аудитор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их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оль и масштаб значительно возраста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дапештская Инициатива «Открытый Доступ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762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Менеджер </a:t>
            </a: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E-archive DonNTU</a:t>
            </a: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 – Ткаченко Наталья  Александровна</a:t>
            </a:r>
            <a:br>
              <a:rPr sz="3600"/>
            </a:b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nsot@library.dgtu.donetsk.u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ропаева Виктория Яковл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ropayeva@donntu.edu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AI - open access initiative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.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История, принципы, пути развити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 открытым доступом к литературе [в первую очередь отрецензированным  журнальным статьям] мы имеем ввид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сплатный доступ через публичный интерн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позволяющий читателям читать, загружать, копировать, распространять и печатать, искать и делать ссылки, индексировать, передавать данные или использовать с другой легальной целью, минуя финансовые и технические барьеры, лишь сохраняя целостность роботы и ссылаясь на автора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Будапештская инициатива «Открытый Досту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200" spc="-1" strike="noStrike">
                <a:solidFill>
                  <a:srgbClr val="003399"/>
                </a:solidFill>
                <a:latin typeface="Times New Roman"/>
              </a:rPr>
              <a:t>Два пути Открытого доступ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31928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олотой – журналы 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еленый – репозитарии (архивы) 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ституцион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ат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1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2276640"/>
            <a:ext cx="331308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Что такое репозитарий (архив) ОД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фровая коллекция научных работ, созданная  путем «самоархивирва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рнальные статьи могут помещаться перед публикацией (препринт) или после (постприн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позитарии содержат метаданнные каждого материала (название, автора и пр.) в формате Open Archives Initiative Protocol for Metadata Harvesting (OAIPM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иск происходит– через Google или другие специализированные системы – OpenDOAR, ROAR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Открытый доступ в цифрах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ждая 5-я статья, напечатанная в 2009 г. – в 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513 журналов О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иректории журналов открытого доступа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www.doaj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766 репозитариев ОД 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ректории репозитариев открытого доступа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http://www.opendoar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25 репозитариев О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естре репозитариев открытого доступа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http://roar.eprints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5 518 361 документов в О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BASE Search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http://www.base-search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сок (систематизированный) ресурсов ОД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http://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kmalibrary.blogspot.com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7"/>
              </a:rPr>
              <a:t>/p/blog-page_23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еление - 46 миллионов че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04 вузов, из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х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351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ниверсит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овательские университе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119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НИИ НАН Украи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4,4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ыс. докторов и кандидатов наук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2000+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учных журналов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70 0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убликаций ежегод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9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76880" y="334800"/>
            <a:ext cx="1495440" cy="10288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476360" y="47628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Украин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07920" y="277560"/>
            <a:ext cx="687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imes New Roman"/>
              </a:rPr>
              <a:t>Украина – поддержка ОД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80840" y="1628640"/>
            <a:ext cx="811188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2007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он Украин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“Про основні засади розвитку інформаційного суспільства в Україні н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 2007-2015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рр.”:  …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бесплатный интернет доступ к ресурсам, созданным за счет госбюджета Украины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2008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- „Про затвердження Порядку передавання електронних копій друкованих наукових фахових видань на зберігання до Національної бібліотеки імені В.І.Вернадського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200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Ольвийская Хар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2009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евастопольский мандат университетов Укра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9" descr="Go to fullsize image"/>
          <p:cNvPicPr/>
          <p:nvPr/>
        </p:nvPicPr>
        <p:blipFill>
          <a:blip r:embed="rId1"/>
          <a:stretch/>
        </p:blipFill>
        <p:spPr>
          <a:xfrm>
            <a:off x="0" y="0"/>
            <a:ext cx="138096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06:09:57Z</dcterms:created>
  <dc:creator>smb</dc:creator>
  <dc:description/>
  <dc:language>en-US</dc:language>
  <cp:lastModifiedBy>Admin</cp:lastModifiedBy>
  <dcterms:modified xsi:type="dcterms:W3CDTF">2011-02-02T18:32:08Z</dcterms:modified>
  <cp:revision>35</cp:revision>
  <dc:subject/>
  <dc:title>Слайд 1</dc:title>
</cp:coreProperties>
</file>